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wmf" ContentType="image/x-wmf"/>
  <Override PartName="/ppt/media/image5.png" ContentType="image/png"/>
  <Override PartName="/ppt/media/image10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Click to move the slide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9394227-25FD-421D-A1C7-922DB7DA6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ts.gov XML and other related top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orm schemas are tailored specifically for one particular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ach form will have Form schema counter-part, there’s a one to one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orm schemas can either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gency specific or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f they are not, then they can be reused by other ag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ummarize what we have covered so far, here is is a pictorial representation of the RR Performance Site schema that shows the use of system schemas to create a form sche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ally designed to hold site lo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both global library and attachment sche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Lib:OrganizationData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:AttachedFileData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rtunity schemas, in turn, define what forms are included that make up the XML application for the opport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cies decide which forms each opportunity may have.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rtunity schemas consist of import and reference statements to other schemas and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example of an opportunity schema that requires the RR_SF424 and lets the applicant optionally add other RR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opportunity will import the header, footer, and all the RR form schemas then reference the individual elements needed to create the opportun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port and refer paradigm is used throughout the grants.Gov schem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der, footer, and global library schemas import the global sche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m schemas import the global libr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the opportunity schema imports the header, form, and footer schem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everal other schemas that are not shown here (like the attachment schema) but the same idea applies to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paces found at top of schema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 for the word “targetNamespac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shown here is for the global library sche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globlib prefix on the third line.  This is an alias to the actual name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act namespace must be used in your application XML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se schema validation will fai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ll application XML must use the exact namespace provided by grants.gov for the XML to be va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ut the alias (also called the prefix) can be anything and your XML will still be va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iven that, it is still to your advantage to use the save namespace aliases that are used in the grants.gov sche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t avoids con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consistency and interoper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schema locations exist and they do not follow the rules, the application XML will be rej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security precaution to prevent the access of server resources by referring to the resources via the schema location UR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mply the formatting or rearranging of the XML text to be in a specific way every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 example would be encoding all XML documents as UTF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other example is changing all line-feeds and carriage returns to a hex-decimal entity equival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main goal is to get two logically equivalent XML documents to look exactly the same no matter how it was writ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hen this is achieved, we can hash the XML bytes into a consistent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assures a consistent hash value no mater what parser is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only hiccup to this is the namespace aliasing that we just discus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onicaliz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TF-8 enco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all line breaks to #x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ities res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DATA sections replaced with character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D declarations remo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ty elements to start/end tag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space outside document and within start and end tags norma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space character contents reta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quotes for attribute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extra namespace decla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default attrib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betized order on namespace declarations and attrib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are several canonical forms a XML document may adher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ant to use the exclusive canonical form because the hash is only taken over the &lt;grant:Forms&gt; n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ly, canonicalization should only be limited to the same sub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canonical form to use is “Exclusive XML Canonicaliza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standard excludes namespaces and attributes under those namespaces that are not part of the canonicalized sub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protects the canonicalized results from being affected by namespaces that are outside of the canonicalized sub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efore submitting to grants.gov, the application XML must be validated fir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Your XML will have schema locations referring to system identifiers that are URL’s to remote schemas hosted on a grants.gov ser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remote URL’s will cause your system to access the internet every time you validate for every schema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sults in longer processing times due to network lat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olution to this problem is to use XML cataloging.  XML cataloging can be use to map remote schema locations to local 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simple solution with huge benefi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asis organization has established a standard for how the catalog should be repres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cataloging, you would need to change every schema location to a local U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ill free the system from network 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oging software is simple to setup.  In fact, the reference implementation was configured to use XML cataloging with changes to just two lines of c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ogs are XML documents that describe the mapping between external identifiers and an URI of your choo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atalogs follow a schema that is published by the OASIS organ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ere we are showing a sample of what your catalog XML file would look l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XML is basically a list of system identifiers and URI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che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eneral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 is for re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sche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to a particular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sche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system and form schema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 a complete grant opportunity application pac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chemas are designed in a hierarchical way where Opportunity schemas are built from Form and System schemas and Form schemas are built with System schemas.  This desig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m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use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ndardiz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XML structures that appear in grants.gov schem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briefly go over 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type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 length restricted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 range restricted numerical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tions of elements that are heavily used throughout all grants.gov schem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ddressing the application to intended ag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rtunity number must be given so that is can be associated with the correct grant opport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DA number and/or Competition ID may also be needed depending on whether the opportunity was published with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opportunity was published with a CFDA number and/or Competition ID, then applicant must also supply the same for the combination will be the unique identifier.  If not, the submission will be rej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fines XML structure for application attach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ile name is self explan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mime-type or content-type (for those who are familiar with HTTP response headers) is the standard representation (given by RFC 1522) of the document type being retur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ntent-ID can be anything of your choo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t must refer to a content-ID in the soap attachment part of the 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hash element expects 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essage dige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of the attachment that i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ase6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enco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lobal Library Sch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milar to Global schema, they both define types to be reused so that grants.Gov XML can be standardized and consis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types in the global schema are more rudi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hereas the global library schema defines more complex structures and utilizes the primative types in the Global sch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niversal Codes sch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olds standard abbreviations for state, country, and curr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759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3673440"/>
            <a:ext cx="6759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1604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37760" y="152388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760" y="152388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367344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37760" y="367344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760" y="367344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752120" y="204480"/>
            <a:ext cx="675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75212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21604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752120" y="3673440"/>
            <a:ext cx="6759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759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752120" y="3673440"/>
            <a:ext cx="6759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75212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21604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37760" y="152388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23760" y="152388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752120" y="367344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037760" y="367344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23760" y="367344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204480"/>
            <a:ext cx="675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1604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3673440"/>
            <a:ext cx="6759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37542"/>
          <a:stretch/>
        </p:blipFill>
        <p:spPr>
          <a:xfrm>
            <a:off x="6095880" y="5889600"/>
            <a:ext cx="3048120" cy="8031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716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872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220680">
              <a:lnSpc>
                <a:spcPct val="110000"/>
              </a:lnSpc>
              <a:spcBef>
                <a:spcPts val="1100"/>
              </a:spcBef>
              <a:buClr>
                <a:srgbClr val="e39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92320">
              <a:lnSpc>
                <a:spcPct val="110000"/>
              </a:lnSpc>
              <a:spcBef>
                <a:spcPts val="1100"/>
              </a:spcBef>
              <a:buClr>
                <a:srgbClr val="e39300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752480" y="6448320"/>
            <a:ext cx="4192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13c8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13c82"/>
                </a:solidFill>
                <a:latin typeface="Arial"/>
              </a:rPr>
              <a:t>Applicant S2S Pilot Workshop      PAGE </a:t>
            </a:r>
            <a:fld id="{63E19BEA-7464-4425-A0F0-4C40F51B9453}" type="slidenum">
              <a:rPr b="0" lang="en-US" sz="1200" spc="-1" strike="noStrike">
                <a:solidFill>
                  <a:srgbClr val="213c8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388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52120" y="3985920"/>
            <a:ext cx="68677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1720" algn="ctr">
              <a:lnSpc>
                <a:spcPct val="110000"/>
              </a:lnSpc>
              <a:spcBef>
                <a:spcPts val="901"/>
              </a:spcBef>
              <a:buClr>
                <a:srgbClr val="e39300"/>
              </a:buClr>
              <a:buSzPct val="13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36520" algn="ctr">
              <a:lnSpc>
                <a:spcPct val="110000"/>
              </a:lnSpc>
              <a:spcBef>
                <a:spcPts val="901"/>
              </a:spcBef>
              <a:buClr>
                <a:srgbClr val="e39300"/>
              </a:buClr>
              <a:buSzPct val="13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w3.org/TR/2001/REC-xml-c14n-20010315" TargetMode="External"/><Relationship Id="rId2" Type="http://schemas.openxmlformats.org/officeDocument/2006/relationships/hyperlink" Target="http://www.w3.org/TR/2001/REC-xml-c14n-20010315" TargetMode="External"/><Relationship Id="rId3" Type="http://schemas.openxmlformats.org/officeDocument/2006/relationships/hyperlink" Target="http://www.w3.org/TR/2001/REC-xml-c14n-20010315" TargetMode="External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22600" y="1190520"/>
            <a:ext cx="7257960" cy="2419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3657240"/>
            <a:ext cx="746784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Applicant S2S Pilot Workshop</a:t>
            </a:r>
            <a:br>
              <a:rPr sz="3600"/>
            </a:b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Grants.gov XML 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410080" y="4876560"/>
            <a:ext cx="33530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31840" y="5405400"/>
            <a:ext cx="881280" cy="893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008080" y="5775480"/>
            <a:ext cx="684216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Managed by the U.S. Department of Health and Human Services</a:t>
            </a:r>
            <a:br>
              <a:rPr sz="1300"/>
            </a:b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Fulfilling the President’s Management Agend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752480" y="204840"/>
            <a:ext cx="675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  <a:ea typeface="Times New Roman"/>
              </a:rPr>
              <a:t>Form Type Schem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52480" y="1523880"/>
            <a:ext cx="6759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ach grant application form within an opportunity has its own sche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formsList" descr=""/>
          <p:cNvPicPr/>
          <p:nvPr/>
        </p:nvPicPr>
        <p:blipFill>
          <a:blip r:embed="rId1"/>
          <a:stretch/>
        </p:blipFill>
        <p:spPr>
          <a:xfrm>
            <a:off x="2514600" y="2362320"/>
            <a:ext cx="4800600" cy="35478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rr_perfsite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5037120" cy="4275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752480" y="204840"/>
            <a:ext cx="675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  <a:ea typeface="Times New Roman"/>
              </a:rPr>
              <a:t>Form Schema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1447920"/>
            <a:ext cx="2286000" cy="144756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y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05720" y="4267080"/>
            <a:ext cx="2209680" cy="160020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0958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5486040" y="4800240"/>
            <a:ext cx="1219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52480" y="204840"/>
            <a:ext cx="675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Opportunity Type Sche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oppSchema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6781680" cy="3114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ASDF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8084880" cy="1828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752480" y="204840"/>
            <a:ext cx="675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Building Of Sche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78132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72428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86600" y="28195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724280" y="28195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724280" y="41911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437920" y="28954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43792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2437920" y="365760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295280" y="251460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  <a:ea typeface="Times New Roman"/>
              </a:rPr>
              <a:t>Grants.gov Schema Name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52480" y="204840"/>
            <a:ext cx="675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  <a:ea typeface="Times New Roman"/>
              </a:rPr>
              <a:t>Schema Name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1523880"/>
            <a:ext cx="675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ll namespaces can be found in their respective schem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namespace2" descr=""/>
          <p:cNvPicPr/>
          <p:nvPr/>
        </p:nvPicPr>
        <p:blipFill>
          <a:blip r:embed="rId1"/>
          <a:stretch/>
        </p:blipFill>
        <p:spPr>
          <a:xfrm>
            <a:off x="2286000" y="2819520"/>
            <a:ext cx="5715000" cy="30924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752480" y="204840"/>
            <a:ext cx="675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  <a:ea typeface="Times New Roman"/>
              </a:rPr>
              <a:t>Use Consistent Namespace Ali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1523880"/>
            <a:ext cx="6759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rants.gov recommends the convention of using the same namespace aliases that are in the system and form schema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alias1" descr=""/>
          <p:cNvPicPr/>
          <p:nvPr/>
        </p:nvPicPr>
        <p:blipFill>
          <a:blip r:embed="rId1"/>
          <a:stretch/>
        </p:blipFill>
        <p:spPr>
          <a:xfrm>
            <a:off x="1676520" y="2819520"/>
            <a:ext cx="6324480" cy="15969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41" name="alias2" descr=""/>
          <p:cNvPicPr/>
          <p:nvPr/>
        </p:nvPicPr>
        <p:blipFill>
          <a:blip r:embed="rId2"/>
          <a:stretch/>
        </p:blipFill>
        <p:spPr>
          <a:xfrm>
            <a:off x="2057400" y="4191120"/>
            <a:ext cx="6629400" cy="16747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752480" y="204840"/>
            <a:ext cx="675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  <a:ea typeface="Times New Roman"/>
              </a:rPr>
              <a:t>Schema Lo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1523880"/>
            <a:ext cx="6759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rants.gov rules for schema loca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chema location reference do not need to be in the application XM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f schema locations exist, they must refer 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22068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submitted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22068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orms/schemas, system/schemas, system/schemas/applicant, or opportunities/schemas/applicant subfolde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ocType declarations are not allow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95280" y="251460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  <a:ea typeface="Times New Roman"/>
              </a:rPr>
              <a:t>Canonicalizing XML before hash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752480" y="204840"/>
            <a:ext cx="675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  <a:ea typeface="Times New Roman"/>
              </a:rPr>
              <a:t>Canonicalized XM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52480" y="1523880"/>
            <a:ext cx="67597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What is it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ormating an XML document according to published specifications given by W3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Why should it be don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o give the same lexical structure to XML document that are logically equival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goal is to produce XML files that are bit-wise equival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Overview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nts.gov Sche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ema Namesp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onicalization of 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ML Catalog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752480" y="204840"/>
            <a:ext cx="675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  <a:ea typeface="Times New Roman"/>
              </a:rPr>
              <a:t>Canonicalized XM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1523880"/>
            <a:ext cx="6759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rants.gov is using the “Exclusive XML Canonicalization” form with the omit comments option active (</a:t>
            </a:r>
            <a:r>
              <a:rPr b="0" lang="en-US" sz="2200" spc="-1" strike="noStrike" u="sng">
                <a:solidFill>
                  <a:srgbClr val="6f8db9"/>
                </a:solidFill>
                <a:uFillTx/>
                <a:latin typeface="Arial"/>
                <a:ea typeface="Times New Roman"/>
                <a:hlinkClick r:id="rId1"/>
              </a:rPr>
              <a:t>http://www.w3.org/TR/2001/REC-</a:t>
            </a:r>
            <a:r>
              <a:rPr b="0" lang="en-US" sz="2200" spc="-1" strike="noStrike" u="sng">
                <a:solidFill>
                  <a:srgbClr val="6f8db9"/>
                </a:solidFill>
                <a:uFillTx/>
                <a:latin typeface="Arial"/>
                <a:ea typeface="Times New Roman"/>
                <a:hlinkClick r:id="rId2"/>
              </a:rPr>
              <a:t>xml</a:t>
            </a:r>
            <a:r>
              <a:rPr b="0" lang="en-US" sz="2200" spc="-1" strike="noStrike" u="sng">
                <a:solidFill>
                  <a:srgbClr val="6f8db9"/>
                </a:solidFill>
                <a:uFillTx/>
                <a:latin typeface="Arial"/>
                <a:ea typeface="Times New Roman"/>
                <a:hlinkClick r:id="rId3"/>
              </a:rPr>
              <a:t>-c14n-2001031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subnode" descr=""/>
          <p:cNvPicPr/>
          <p:nvPr/>
        </p:nvPicPr>
        <p:blipFill>
          <a:blip r:embed="rId4"/>
          <a:stretch/>
        </p:blipFill>
        <p:spPr>
          <a:xfrm>
            <a:off x="2057400" y="3276720"/>
            <a:ext cx="6210360" cy="25527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295280" y="251460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  <a:ea typeface="Times New Roman"/>
              </a:rPr>
              <a:t>XML Catalo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752480" y="204840"/>
            <a:ext cx="675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  <a:ea typeface="Times New Roman"/>
              </a:rPr>
              <a:t>XML Catalog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1523880"/>
            <a:ext cx="67597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What is it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tool to map public and/or system identifiers to an alternate UR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asis XML Cataloging standa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Why should it be used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n easy way to map remote resources, like schemas, to local 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752480" y="204840"/>
            <a:ext cx="675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  <a:ea typeface="Times New Roman"/>
              </a:rPr>
              <a:t>XML Cataloging Configu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1523880"/>
            <a:ext cx="6759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nfigured with an XML file following the Oasis standar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catalog" descr=""/>
          <p:cNvPicPr/>
          <p:nvPr/>
        </p:nvPicPr>
        <p:blipFill>
          <a:blip r:embed="rId1"/>
          <a:stretch/>
        </p:blipFill>
        <p:spPr>
          <a:xfrm>
            <a:off x="1447920" y="2514600"/>
            <a:ext cx="7503840" cy="20527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Questions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90640" y="1671480"/>
            <a:ext cx="3762720" cy="3515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295280" y="251460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Grants.gov Sche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75248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ee types of sch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em sch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 sch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portunity sch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204840"/>
            <a:ext cx="675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Grants.gov Sche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schemas" descr=""/>
          <p:cNvPicPr/>
          <p:nvPr/>
        </p:nvPicPr>
        <p:blipFill>
          <a:blip r:embed="rId1"/>
          <a:stretch/>
        </p:blipFill>
        <p:spPr>
          <a:xfrm>
            <a:off x="5116680" y="2209680"/>
            <a:ext cx="3627360" cy="3772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52480" y="204840"/>
            <a:ext cx="675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System Type Sche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1523880"/>
            <a:ext cx="6759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five system schem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ach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Libr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versal Co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752480" y="204840"/>
            <a:ext cx="675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Global Sch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1523880"/>
            <a:ext cx="675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ic 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usable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global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6705720" cy="3338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header" descr=""/>
          <p:cNvPicPr/>
          <p:nvPr/>
        </p:nvPicPr>
        <p:blipFill>
          <a:blip r:embed="rId1"/>
          <a:stretch/>
        </p:blipFill>
        <p:spPr>
          <a:xfrm>
            <a:off x="2286000" y="1905120"/>
            <a:ext cx="4648320" cy="42447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752480" y="204840"/>
            <a:ext cx="675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  <a:ea typeface="Times New Roman"/>
              </a:rPr>
              <a:t>Header Sch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1523880"/>
            <a:ext cx="675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es the agency, applicant, and grant opportun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52480" y="204840"/>
            <a:ext cx="675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  <a:ea typeface="Times New Roman"/>
              </a:rPr>
              <a:t>Attachment Schem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1523880"/>
            <a:ext cx="675972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Holds information about attachments submitted with the grant applicatio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il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ntent type (MIME/DIM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ntent 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Has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attachment" descr=""/>
          <p:cNvPicPr/>
          <p:nvPr/>
        </p:nvPicPr>
        <p:blipFill>
          <a:blip r:embed="rId1"/>
          <a:stretch/>
        </p:blipFill>
        <p:spPr>
          <a:xfrm>
            <a:off x="4114800" y="3352680"/>
            <a:ext cx="4495680" cy="2419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752480" y="204840"/>
            <a:ext cx="675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  <a:ea typeface="Times New Roman"/>
              </a:rPr>
              <a:t>Global Library and Universal Cod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1523880"/>
            <a:ext cx="6759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Global Library contains commonly used XML structur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Universal Codes schema keeps constant values for commonly used abbrevia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address" descr=""/>
          <p:cNvPicPr/>
          <p:nvPr/>
        </p:nvPicPr>
        <p:blipFill>
          <a:blip r:embed="rId1"/>
          <a:stretch/>
        </p:blipFill>
        <p:spPr>
          <a:xfrm>
            <a:off x="5486400" y="3276720"/>
            <a:ext cx="3048120" cy="2647800"/>
          </a:xfrm>
          <a:prstGeom prst="rect">
            <a:avLst/>
          </a:prstGeom>
          <a:ln w="0">
            <a:noFill/>
          </a:ln>
        </p:spPr>
      </p:pic>
      <p:pic>
        <p:nvPicPr>
          <p:cNvPr id="112" name="name" descr=""/>
          <p:cNvPicPr/>
          <p:nvPr/>
        </p:nvPicPr>
        <p:blipFill>
          <a:blip r:embed="rId2"/>
          <a:stretch/>
        </p:blipFill>
        <p:spPr>
          <a:xfrm>
            <a:off x="1905120" y="3352680"/>
            <a:ext cx="3429000" cy="2000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20:54:43Z</dcterms:created>
  <dc:creator>Vincent McCullough</dc:creator>
  <dc:description/>
  <dc:language>en-US</dc:language>
  <cp:lastModifiedBy>David Wong</cp:lastModifiedBy>
  <dcterms:modified xsi:type="dcterms:W3CDTF">2005-03-29T16:48:40Z</dcterms:modified>
  <cp:revision>122</cp:revision>
  <dc:subject/>
  <dc:title>Background – Agency Web Services</dc:title>
</cp:coreProperties>
</file>