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gif" ContentType="image/gif"/>
  <Override PartName="/ppt/media/image8.jpeg" ContentType="image/jpeg"/>
  <Override PartName="/ppt/media/image9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542"/>
          <a:stretch/>
        </p:blipFill>
        <p:spPr>
          <a:xfrm>
            <a:off x="6095880" y="5889600"/>
            <a:ext cx="3048120" cy="803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9232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52480" y="6448320"/>
            <a:ext cx="4192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13c8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3c82"/>
                </a:solidFill>
                <a:latin typeface="Arial"/>
              </a:rPr>
              <a:t>Applicant S2S Pilot Workshop      PAGE </a:t>
            </a:r>
            <a:fld id="{B7A5F7A9-579D-431F-88B3-D81B718940BE}" type="slidenum">
              <a:rPr b="0" lang="en-US" sz="1200" spc="-1" strike="noStrike">
                <a:solidFill>
                  <a:srgbClr val="213c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3985920"/>
            <a:ext cx="68677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65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rants.gov/WebServices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3657240"/>
            <a:ext cx="7467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S2S Pilot Workshop</a:t>
            </a:r>
            <a:br>
              <a:rPr sz="3600"/>
            </a:b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Web Services</a:t>
            </a: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Security</a:t>
            </a: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95288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So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52480" y="1143000"/>
            <a:ext cx="6705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nt S2S System Integratio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ing Process for File 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Secure Hash Algorithm (SHA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Base64 En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Insert into Attachment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ing Process for Grant Application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Canonicalize the XML 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SHA-1 and Base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Insert into Head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380880"/>
            <a:ext cx="675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Hash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99036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How Do You Sign Up?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-763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Applicant S2S Registration Proce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95280"/>
            <a:ext cx="6781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Grants.gov SI Team the following inf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Copy of your Signed Public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Your Organization’s DUNS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Email Address for Not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Authorized Organization Representative (AOR)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I Team Creates your User Acc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Your E-biz POC Grants AOR Privileg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tion Onl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0920" y="11430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3657240"/>
            <a:ext cx="7467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S2S Pilot Workshop</a:t>
            </a:r>
            <a:br>
              <a:rPr sz="3600"/>
            </a:b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Test Plan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952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So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You Rea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t’s Get Star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5248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ubleshooting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Application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rify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Are You Ready?</a:t>
            </a:r>
            <a:br>
              <a:rPr sz="3600"/>
            </a:b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76236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524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dequate Technical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Minimal Assistance from Grants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Applicant Integration Documents (</a:t>
            </a:r>
            <a:r>
              <a:rPr b="0" lang="en-US" sz="2400" spc="-1" strike="noStrike" u="sng">
                <a:solidFill>
                  <a:srgbClr val="6f8db9"/>
                </a:solidFill>
                <a:uFillTx/>
                <a:latin typeface="Arial"/>
                <a:hlinkClick r:id="rId1"/>
              </a:rPr>
              <a:t>http://www.grants.gov/WebServic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SDL, Schemas, Security, Test Pla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 and Test with the Reference Implementation (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04920"/>
            <a:ext cx="675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52480" y="114300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your SOAP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Against the RI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 Connectivity to the Acceptance Testing (AT)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https://atws.grants.gov: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tain a CA Signed Certificat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04920"/>
            <a:ext cx="675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b Services Secur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is Required of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w Do You Sign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Let’s Get Started!</a:t>
            </a:r>
            <a:br>
              <a:rPr sz="3600"/>
            </a:b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315756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52480" y="1143000"/>
            <a:ext cx="6553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 Kickoff Teleconference with Grants.gov SI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POC: Peter.Brunner@hhs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I Team with Registration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rate to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920"/>
            <a:ext cx="675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Let’s Get Start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0920" y="11430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5248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ual Certificate Bas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Way H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Web Services Sec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28600"/>
            <a:ext cx="67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1c4"/>
                </a:solidFill>
                <a:latin typeface="Times New Roman"/>
              </a:rPr>
              <a:t>Mutual</a:t>
            </a: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841c4"/>
                </a:solidFill>
                <a:latin typeface="Times New Roman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6705720"/>
            <a:ext cx="533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t Application 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pache XML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One-Way Ha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What is Required of You?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457200"/>
            <a:ext cx="675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Before You Buy A Certificat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21932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Implementation (RI) Key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 KeyStore allows you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uthenticate to the Acceptance Testing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2206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https://atws.grants.gov: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xecute all of the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Debug KeyStore and TrustStor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Verify Connectivity to Grants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liminate the X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Certificate</a:t>
            </a: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523880"/>
            <a:ext cx="7086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s Security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Domestic Strength Server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SA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 Length Must be 1024 or 2048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ial Number - Min 8 Hex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ed by a Recognized Certificate Authority (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228600"/>
            <a:ext cx="675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TrustStore</a:t>
            </a:r>
            <a:r>
              <a:rPr b="1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Requirements</a:t>
            </a: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143000"/>
            <a:ext cx="6759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t Contain Entrust Roo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467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0:54:43Z</dcterms:created>
  <dc:creator>Mark Sommer</dc:creator>
  <dc:description/>
  <dc:language>en-US</dc:language>
  <cp:lastModifiedBy>Northrop Grumman User</cp:lastModifiedBy>
  <dcterms:modified xsi:type="dcterms:W3CDTF">2005-03-29T18:18:05Z</dcterms:modified>
  <cp:revision>172</cp:revision>
  <dc:subject/>
  <dc:title>Background – Agency Web Services</dc:title>
</cp:coreProperties>
</file>