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7.gif" ContentType="image/gif"/>
  <Override PartName="/ppt/media/image8.png" ContentType="image/png"/>
  <Override PartName="/ppt/media/image12.wmf" ContentType="image/x-wmf"/>
  <Override PartName="/ppt/media/image9.png" ContentType="image/png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6052F9-2E1B-49C2-8B0C-5DBA87177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of supporting the grants.gov web services design is interoperability across all plat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ed by www.FedGrants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Opportunity Web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ID, CFDA Number, Competition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Verify that the grant opportunity is available for electronic submis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vides both the opportunity schema and instru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grant applications are submitted using the SubmitApplication Web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XML and attachments are posted to Grants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applications may be submitted simultaneously by multi-threading the client; but batch submissions are not allo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licant organization needs to provide the authentication and authorization for a submission to grants.gov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ther words, grants.gov is not verifying the acutal person pressing the submit button.  We are only validating that the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endpoint URL for all 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AP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h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ent in binary format ( no base64 encoding neede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re attachment must be loaded in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difficult to send/receive large attach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unking allows attachments to be sent in smaller chunks instead of all at o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benefit when sending large attach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icient than M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by the WS team for optimum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ML Valid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rant application XML document against the opportunity XML sche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U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plicant system is authorized to submit on behalf of the DUNS number contained in the grant xm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que nine-digit sequence recognized as the universal standard for identifying applicant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tent-id and Content-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ceived in the Attachment SOAP Part must match the Attachment XM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sh Val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rant Forms and Attach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idation error messages can be retrieved using the GetApplicationDetail Web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it the Grants.gov tracking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 no schema is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b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ts.gov treats resubmitted applications as new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receives a new tracking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cy will  rejected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generate only those bindings necessary for the client. Axis follows the JAX-RPC specification when generating Java client bindings from WSD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compliant Web Service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of Grants.gov web service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talk more about these throughout the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OR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and Authorization are applied to the applicant’s system; not the appli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nt system developers will need to develop the front-end capability to capture data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to grants.gov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t Making A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cy business rule validation is not provided by Grants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ions and awards process requires direct interaction with A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tional consortium of 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 is to develop interoperable standards for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7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37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52120" y="204480"/>
            <a:ext cx="67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37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3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75212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037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3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AE464-9796-40CA-82DA-0D86CF5D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CAD67-FBF3-4DCD-95F9-32AFB799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F54D0-59FA-49A7-AAC6-B61052C8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37FA8-FA6D-48EA-8607-D07525B0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54ED1-32C1-4A27-855E-83D82176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752120" y="204480"/>
            <a:ext cx="67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5CDC4-678D-4D0B-98D9-CCAD0889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1328A-9F2F-4655-A481-2EF977CC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F29E1-7354-4646-9D67-C8581FB4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F19D8-F843-4820-B782-F9609F63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07BD2-6911-46AF-952B-59A3A37F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DEF72-C767-4FB6-B905-021A0DA9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37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23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75212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037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23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E4EA0-8010-4EF6-8908-36A13617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04480"/>
            <a:ext cx="67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542"/>
          <a:stretch/>
        </p:blipFill>
        <p:spPr>
          <a:xfrm>
            <a:off x="6095880" y="5889600"/>
            <a:ext cx="3048120" cy="8031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220680">
              <a:lnSpc>
                <a:spcPct val="110000"/>
              </a:lnSpc>
              <a:spcBef>
                <a:spcPts val="1100"/>
              </a:spcBef>
              <a:buClr>
                <a:srgbClr val="e39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92320">
              <a:lnSpc>
                <a:spcPct val="110000"/>
              </a:lnSpc>
              <a:spcBef>
                <a:spcPts val="1100"/>
              </a:spcBef>
              <a:buClr>
                <a:srgbClr val="e39300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752480" y="6448320"/>
            <a:ext cx="4192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13c8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3c82"/>
                </a:solidFill>
                <a:latin typeface="Arial"/>
              </a:rPr>
              <a:t>Applicant  S2S Pilot Workshop Feb 2005      PAGE </a:t>
            </a:r>
            <a:fld id="{F6979413-A717-47A3-B4FE-9F5A67E3FBA2}" type="slidenum">
              <a:rPr b="0" lang="en-US" sz="1200" spc="-1" strike="noStrike">
                <a:solidFill>
                  <a:srgbClr val="213c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38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3985920"/>
            <a:ext cx="68677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720" algn="ctr">
              <a:lnSpc>
                <a:spcPct val="110000"/>
              </a:lnSpc>
              <a:spcBef>
                <a:spcPts val="901"/>
              </a:spcBef>
              <a:buClr>
                <a:srgbClr val="e39300"/>
              </a:buClr>
              <a:buSzPct val="13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6520" algn="ctr">
              <a:lnSpc>
                <a:spcPct val="110000"/>
              </a:lnSpc>
              <a:spcBef>
                <a:spcPts val="901"/>
              </a:spcBef>
              <a:buClr>
                <a:srgbClr val="e39300"/>
              </a:buClr>
              <a:buSzPct val="13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2A3E-E2C9-4BA4-A962-6911FCDF7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ants.gov/Find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bhusted@ekagrasoft.com" TargetMode="External"/><Relationship Id="rId2" Type="http://schemas.openxmlformats.org/officeDocument/2006/relationships/hyperlink" Target="mailto:Mark.Sommer@ngc.com" TargetMode="External"/><Relationship Id="rId3" Type="http://schemas.openxmlformats.org/officeDocument/2006/relationships/hyperlink" Target="mailto:David.Wong2@ngc.com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22600" y="1190520"/>
            <a:ext cx="7257960" cy="2419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841c4"/>
                </a:solidFill>
                <a:latin typeface="Times New Roman"/>
              </a:rPr>
              <a:t>Grants.gov Applicant S2S Pilot Workshop</a:t>
            </a:r>
            <a:br>
              <a:rPr sz="3200"/>
            </a:br>
            <a:r>
              <a:rPr b="0" i="1" lang="en-US" sz="3200" spc="-1" strike="noStrike">
                <a:solidFill>
                  <a:srgbClr val="1841c4"/>
                </a:solidFill>
                <a:latin typeface="Times New Roman"/>
              </a:rPr>
              <a:t>March 2005 </a:t>
            </a:r>
            <a:endParaRPr b="0" i="1" lang="en-US" sz="32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31840" y="5405400"/>
            <a:ext cx="881280" cy="893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08080" y="5775480"/>
            <a:ext cx="68421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Managed by the U.S. Department of Health and Human Services</a:t>
            </a:r>
            <a:br>
              <a:rPr sz="1300"/>
            </a:b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Fulfilling the President’s Management Age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Supported Specifications (cont.)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Microso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rect Internet Message Encapsulation (D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3c82"/>
                </a:solidFill>
                <a:latin typeface="Arial"/>
              </a:rPr>
              <a:t>O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Catalo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59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Locating Available Opportunitie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19040" indent="-41904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s.gov Find function - </a:t>
            </a:r>
            <a:r>
              <a:rPr b="0" lang="en-US" sz="2400" spc="-1" strike="noStrike" u="sng">
                <a:solidFill>
                  <a:srgbClr val="6f8db9"/>
                </a:solidFill>
                <a:uFillTx/>
                <a:latin typeface="Arial"/>
                <a:hlinkClick r:id="rId1"/>
              </a:rPr>
              <a:t>http://www.grants.gov/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on F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OpportunityList Web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1599840"/>
            <a:ext cx="675936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Electronic Grant Submission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lvl="1" marL="7794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43440" y="3200400"/>
            <a:ext cx="2286000" cy="163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SubmitApplication Service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Application Web Serv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h submission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one application may be submitted per requ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orize Submission (AOR Author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SubmitApplication - SOAP Request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8305920" cy="3333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3580920" y="3733920"/>
            <a:ext cx="2971800" cy="1143000"/>
          </a:xfrm>
          <a:prstGeom prst="line">
            <a:avLst/>
          </a:prstGeom>
          <a:ln w="25560">
            <a:solidFill>
              <a:srgbClr val="213c8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6553080" y="3200400"/>
            <a:ext cx="1143000" cy="905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rant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Documents"/>
          <p:cNvSpPr/>
          <p:nvPr/>
        </p:nvSpPr>
        <p:spPr>
          <a:xfrm>
            <a:off x="6705720" y="5048280"/>
            <a:ext cx="990360" cy="9907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46864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ttach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09320" y="5486400"/>
            <a:ext cx="4496040" cy="609480"/>
          </a:xfrm>
          <a:prstGeom prst="line">
            <a:avLst/>
          </a:prstGeom>
          <a:ln w="25560">
            <a:solidFill>
              <a:srgbClr val="213c8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6759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SOAP Attachment Encapsulation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52120" y="1028520"/>
            <a:ext cx="6759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lvl="1" marL="68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3c82"/>
                </a:solidFill>
                <a:latin typeface="Arial"/>
              </a:rPr>
              <a:t>SOAP with Attachments (Sw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M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ed by W3C open standards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4845"/>
                </a:solidFill>
                <a:latin typeface="Arial"/>
              </a:rPr>
              <a:t>Direct Internet Message Encapsulation (DI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 Chu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Performance and Resource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759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Validation Performed by Grants.gov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trict XML schema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pportunity Number, CFDA Number, Competition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pportunity Opening and Closing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-U-N-S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ntent-id and Content-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Hash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irus free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Retrieving Validation Error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ApplicationStatusDetail Web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bmitting an application to Grant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70102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Application Status Tracking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etApplicationList web service is used for application status tra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nt tracking number can be included on the SubmissionTitle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cy tracking numb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14400" y="1638360"/>
            <a:ext cx="118116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4210200"/>
            <a:ext cx="12384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1638360"/>
            <a:ext cx="1276560" cy="590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1676520"/>
            <a:ext cx="118116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lid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228600"/>
            <a:ext cx="2743200" cy="9144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alidation Pass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repare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1181160"/>
            <a:ext cx="0" cy="666720"/>
          </a:xfrm>
          <a:prstGeom prst="line">
            <a:avLst/>
          </a:prstGeom>
          <a:ln cap="rnd" w="507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160" y="2838600"/>
            <a:ext cx="2590920" cy="6094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alidation F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2971800"/>
            <a:ext cx="2400480" cy="55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48480" y="30052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ceived by Ag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4191120"/>
            <a:ext cx="2743200" cy="47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420516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sign Agency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76480" y="1905120"/>
            <a:ext cx="971640" cy="0"/>
          </a:xfrm>
          <a:prstGeom prst="line">
            <a:avLst/>
          </a:prstGeom>
          <a:ln w="127080">
            <a:solidFill>
              <a:srgbClr val="333399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2209680"/>
            <a:ext cx="0" cy="2286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3162240"/>
            <a:ext cx="990720" cy="0"/>
          </a:xfrm>
          <a:prstGeom prst="line">
            <a:avLst/>
          </a:prstGeom>
          <a:ln cap="rnd" w="507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6153120"/>
            <a:ext cx="1905120" cy="55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51320" y="6137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ur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819320" y="3200400"/>
            <a:ext cx="167652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857480" y="3200400"/>
            <a:ext cx="19080" cy="16002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276200" y="4743000"/>
            <a:ext cx="0" cy="47628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219320" y="5181480"/>
            <a:ext cx="312408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020080" y="4686120"/>
            <a:ext cx="0" cy="53316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866920" y="5181480"/>
            <a:ext cx="221004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28960" y="4762440"/>
            <a:ext cx="2057400" cy="76212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fter 180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0640" y="1924200"/>
            <a:ext cx="3047760" cy="0"/>
          </a:xfrm>
          <a:prstGeom prst="line">
            <a:avLst/>
          </a:prstGeom>
          <a:ln w="127080">
            <a:solidFill>
              <a:srgbClr val="333399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01000" y="2209680"/>
            <a:ext cx="0" cy="685800"/>
          </a:xfrm>
          <a:prstGeom prst="line">
            <a:avLst/>
          </a:prstGeom>
          <a:ln w="127080">
            <a:solidFill>
              <a:srgbClr val="333399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3505320"/>
            <a:ext cx="0" cy="685800"/>
          </a:xfrm>
          <a:prstGeom prst="line">
            <a:avLst/>
          </a:prstGeom>
          <a:ln w="127080">
            <a:solidFill>
              <a:srgbClr val="333399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90280" y="4495680"/>
            <a:ext cx="1924200" cy="0"/>
          </a:xfrm>
          <a:prstGeom prst="line">
            <a:avLst/>
          </a:prstGeom>
          <a:ln w="127080">
            <a:solidFill>
              <a:srgbClr val="333399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57840" y="5486400"/>
            <a:ext cx="0" cy="685800"/>
          </a:xfrm>
          <a:prstGeom prst="line">
            <a:avLst/>
          </a:prstGeom>
          <a:ln w="127080">
            <a:solidFill>
              <a:srgbClr val="333399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520" y="38160"/>
            <a:ext cx="2438280" cy="7621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ppl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WS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762120"/>
            <a:ext cx="0" cy="761760"/>
          </a:xfrm>
          <a:prstGeom prst="line">
            <a:avLst/>
          </a:prstGeom>
          <a:ln w="127080">
            <a:solidFill>
              <a:srgbClr val="333399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600200" y="762120"/>
            <a:ext cx="0" cy="761760"/>
          </a:xfrm>
          <a:prstGeom prst="line">
            <a:avLst/>
          </a:prstGeom>
          <a:ln w="127080">
            <a:solidFill>
              <a:srgbClr val="8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Grants.gov Submission Life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Introduction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an Husted – </a:t>
            </a:r>
            <a:r>
              <a:rPr b="0" lang="en-US" sz="2200" spc="-1" strike="noStrike" u="sng">
                <a:solidFill>
                  <a:srgbClr val="6f8db9"/>
                </a:solidFill>
                <a:uFillTx/>
                <a:latin typeface="Arial"/>
                <a:hlinkClick r:id="rId1"/>
              </a:rPr>
              <a:t>bhusted@ekagrasoft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 Sommer – </a:t>
            </a:r>
            <a:r>
              <a:rPr b="0" lang="en-US" sz="2200" spc="-1" strike="noStrike" u="sng">
                <a:solidFill>
                  <a:srgbClr val="6f8db9"/>
                </a:solidFill>
                <a:uFillTx/>
                <a:latin typeface="Arial"/>
                <a:hlinkClick r:id="rId2"/>
              </a:rPr>
              <a:t>Mark.Sommer@ngc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vid Wong – </a:t>
            </a:r>
            <a:r>
              <a:rPr b="0" lang="en-US" sz="2200" spc="-1" strike="noStrike" u="sng">
                <a:solidFill>
                  <a:srgbClr val="6f8db9"/>
                </a:solidFill>
                <a:uFillTx/>
                <a:latin typeface="Arial"/>
                <a:hlinkClick r:id="rId3"/>
              </a:rPr>
              <a:t>David.Wong2@ngc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057040"/>
            <a:ext cx="7521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Applicant Web Services Technologie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114800" y="3581280"/>
            <a:ext cx="1789200" cy="1803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Web Services Technologie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144756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 Ax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 WSDL2Ja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 Xerces and Xalan for XML parsing and val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 XML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 Resolver for XML Catalo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533412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Reusable Java Technologies 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6759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pache SOAPMonitor Appl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001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SOAP Messages in re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001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for 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 API’s from Reference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001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SOAP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001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Validation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001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and Attachment Hashing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001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Catalo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523880" cy="147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Question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690640" y="1671480"/>
            <a:ext cx="3762720" cy="3515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Technical Agenda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nt Web Services Interface and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s.gov and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nts.gov XML Resource Directory (RD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nt Web Services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nt Web Services Test Plan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ask questions at any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6759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Applicant Web Services </a:t>
            </a:r>
            <a:br>
              <a:rPr sz="3600"/>
            </a:b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Interface and Technologie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3836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841c4"/>
                </a:solidFill>
                <a:latin typeface="Times New Roman"/>
              </a:rPr>
              <a:t>Overview</a:t>
            </a:r>
            <a:endParaRPr b="0" i="1" lang="en-US" sz="32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57440" y="1619280"/>
            <a:ext cx="675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does/does not prov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Standards and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ng Gr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Grant Sub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performed by Grant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s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nt Web Services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What the Interface Provide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rtunity schemas and instr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ic Grant sub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nt status tra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erence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nt Web Service Definition Language (WSD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What the Interface does not Provide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R authority to subm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to populate the grant application 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cy specific val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ices to directly communicate with backend Ag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9840" y="251424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Web Services </a:t>
            </a:r>
            <a:br>
              <a:rPr sz="3600"/>
            </a:b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Standards and Specification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22520" y="456840"/>
            <a:ext cx="6759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Supported Specifications</a:t>
            </a:r>
            <a:br>
              <a:rPr sz="3600"/>
            </a:b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5714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c84845"/>
                </a:solidFill>
                <a:latin typeface="Arial"/>
              </a:rPr>
              <a:t>World Wide Web Consor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v1.1 and v1.2 (candidate recommend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with Attachments (Sw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s Definition Language (WS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76212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0:54:43Z</dcterms:created>
  <dc:creator>Brian Husted</dc:creator>
  <dc:description/>
  <dc:language>en-US</dc:language>
  <cp:lastModifiedBy>Kalpesh Patel</cp:lastModifiedBy>
  <dcterms:modified xsi:type="dcterms:W3CDTF">2005-03-29T16:38:18Z</dcterms:modified>
  <cp:revision>232</cp:revision>
  <dc:subject/>
  <dc:title>Background – Agency Web Services</dc:title>
</cp:coreProperties>
</file>