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-36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E8E3D06-4A79-4E2D-B02D-6D479C5880D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182240" y="700200"/>
            <a:ext cx="4621320" cy="34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-144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-144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0560" y="-40680"/>
            <a:ext cx="7029360" cy="7585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0560" y="-40680"/>
            <a:ext cx="7029360" cy="7585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0560" y="-40680"/>
            <a:ext cx="7029360" cy="7585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0560" y="-40680"/>
            <a:ext cx="7029360" cy="7585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0560" y="-40680"/>
            <a:ext cx="7029360" cy="7585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0560" y="-40680"/>
            <a:ext cx="7029360" cy="7585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0560" y="-40680"/>
            <a:ext cx="7029360" cy="7585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0560" y="118800"/>
            <a:ext cx="7029360" cy="20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0560" y="-40680"/>
            <a:ext cx="7029360" cy="7585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0560" y="-40680"/>
            <a:ext cx="7029360" cy="7585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0560" y="-40680"/>
            <a:ext cx="7029360" cy="7585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894200" y="4737240"/>
            <a:ext cx="4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65760" y="6564240"/>
            <a:ext cx="97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B0A32353-1533-499E-A0CA-9B696F52354C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060560" y="118800"/>
            <a:ext cx="7029360" cy="4395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440" y="3240"/>
            <a:ext cx="725760" cy="6429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33200" y="696960"/>
            <a:ext cx="887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098960" y="6335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304920" y="6546960"/>
            <a:ext cx="91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0400" y="939600"/>
            <a:ext cx="8335800" cy="30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2840" indent="-222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s V Request for Information released on July 9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d 15 responses from indu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s V procurement process is a two phased appr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ase I is a full and open competi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objective is to get industry involvement in assisting NASA in defining Ares V operational concepts, developing requirements, and refining design concep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 I RFP planned to be released in early January 2009, anticipate awards made in early spring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 I will include the following 5 “work packag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load Shro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th Departure Stage (E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e 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Stage Boo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i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cipate multiple awards for each work pack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 month Base period with two “one year options” for each work pack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hicle Integration support to NASA for Phase I will be acquired outside this procurement mecha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 I will go through the Ares V Systems Requirement Review (SRR) planned for July 2011 and culminate with the Systems Definition Review (SDR) planned for early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 II procurement will result in contracts for hardware development in 2012 tim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Pre-decis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33440" y="225360"/>
            <a:ext cx="46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Ares V Proc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8120" y="0"/>
            <a:ext cx="703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SMALL AND SMALL DISADVANTAGED BUSINESS CONSID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2416320"/>
            <a:ext cx="2549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89000" y="1790640"/>
            <a:ext cx="760716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s V Phase I Acqui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Business – Total 5% Overall Go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% Small Disadvantaged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% Woman-Owned Small Busin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% Historically Underutilized Business (HUBZ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% Veteran-Owned Smal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% Service Disabled Veteran-Owned Smal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 Pre-deci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atti Hall</dc:creator>
  <dc:description/>
  <cp:keywords/>
  <dc:language>en-US</dc:language>
  <cp:lastModifiedBy>Joseph Eversole</cp:lastModifiedBy>
  <cp:lastPrinted>1997-04-22T18:05:22Z</cp:lastPrinted>
  <dcterms:modified xsi:type="dcterms:W3CDTF">2008-09-25T20:08:01Z</dcterms:modified>
  <cp:revision>229</cp:revision>
  <dc:subject/>
  <dc:title>No Slide Title</dc:title>
</cp:coreProperties>
</file>