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D0A0F-1BEC-4DD8-A738-CF04A010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44640" y="-360"/>
            <a:ext cx="719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960" y="1057320"/>
            <a:ext cx="8616960" cy="2561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5960" y="3862440"/>
            <a:ext cx="8616960" cy="2561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18D8E-B6F8-4DD7-A6CF-46AE8D9E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44640" y="-360"/>
            <a:ext cx="719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5960" y="1057320"/>
            <a:ext cx="4204800" cy="2561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61360" y="1057320"/>
            <a:ext cx="4204800" cy="2561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5960" y="3862440"/>
            <a:ext cx="4204800" cy="2561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61360" y="3862440"/>
            <a:ext cx="4204800" cy="2561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438C-AF53-406D-A3CF-E769C839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44640" y="-360"/>
            <a:ext cx="719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960" y="1057320"/>
            <a:ext cx="2774520" cy="2561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9440" y="1057320"/>
            <a:ext cx="2774520" cy="2561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3280" y="1057320"/>
            <a:ext cx="2774520" cy="2561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5960" y="3862440"/>
            <a:ext cx="2774520" cy="2561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9440" y="3862440"/>
            <a:ext cx="2774520" cy="2561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3280" y="3862440"/>
            <a:ext cx="2774520" cy="2561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A6B1F-3CDD-4BE9-9CEA-CA5CA6D3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44640" y="-360"/>
            <a:ext cx="719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5960" y="1057320"/>
            <a:ext cx="8616960" cy="53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5674B-818E-403B-9187-1732866D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44640" y="-360"/>
            <a:ext cx="719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5960" y="1057320"/>
            <a:ext cx="8616960" cy="537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DA365-632E-496A-B1BC-E267FB5D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44640" y="-360"/>
            <a:ext cx="719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5960" y="1057320"/>
            <a:ext cx="4204800" cy="537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61360" y="1057320"/>
            <a:ext cx="4204800" cy="537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8B011-9619-4A12-AFAB-98BC0E7F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44640" y="-360"/>
            <a:ext cx="719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7E34-CBE7-45C9-98E1-9F760668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44640" y="-360"/>
            <a:ext cx="719928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ACB81-44F2-4C5C-B477-B8DEBEB8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44640" y="-360"/>
            <a:ext cx="719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5960" y="1057320"/>
            <a:ext cx="4204800" cy="2561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61360" y="1057320"/>
            <a:ext cx="4204800" cy="537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5960" y="3862440"/>
            <a:ext cx="4204800" cy="2561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1556C-1FA2-4498-A149-D363B67B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44640" y="-360"/>
            <a:ext cx="719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5960" y="1057320"/>
            <a:ext cx="4204800" cy="537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61360" y="1057320"/>
            <a:ext cx="4204800" cy="2561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61360" y="3862440"/>
            <a:ext cx="4204800" cy="2561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23AB6-69B2-4310-8EE7-E5A58F54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44640" y="-360"/>
            <a:ext cx="719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960" y="1057320"/>
            <a:ext cx="4204800" cy="2561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61360" y="1057320"/>
            <a:ext cx="4204800" cy="2561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960" y="3862440"/>
            <a:ext cx="8616960" cy="2561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C867A-7226-41CA-8450-01945EA3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44640" y="-360"/>
            <a:ext cx="7199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7" descr=""/>
          <p:cNvPicPr/>
          <p:nvPr/>
        </p:nvPicPr>
        <p:blipFill>
          <a:blip r:embed="rId2"/>
          <a:stretch/>
        </p:blipFill>
        <p:spPr>
          <a:xfrm>
            <a:off x="146160" y="88920"/>
            <a:ext cx="685800" cy="6062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"/>
          <p:cNvPicPr/>
          <p:nvPr/>
        </p:nvPicPr>
        <p:blipFill>
          <a:blip r:embed="rId3"/>
          <a:stretch/>
        </p:blipFill>
        <p:spPr>
          <a:xfrm>
            <a:off x="8251920" y="57240"/>
            <a:ext cx="761760" cy="636480"/>
          </a:xfrm>
          <a:prstGeom prst="rect">
            <a:avLst/>
          </a:prstGeom>
          <a:ln w="0">
            <a:noFill/>
          </a:ln>
        </p:spPr>
      </p:pic>
      <p:sp>
        <p:nvSpPr>
          <p:cNvPr id="3" name="AutoShape 9"/>
          <p:cNvSpPr/>
          <p:nvPr/>
        </p:nvSpPr>
        <p:spPr>
          <a:xfrm>
            <a:off x="1320840" y="743040"/>
            <a:ext cx="6522840" cy="42840"/>
          </a:xfrm>
          <a:prstGeom prst="roundRect">
            <a:avLst>
              <a:gd name="adj" fmla="val 16667"/>
            </a:avLst>
          </a:prstGeom>
          <a:solidFill>
            <a:srgbClr val="0b3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-57600" y="6675120"/>
            <a:ext cx="26384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ational Aeronautics and Space Administration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7289640" y="6673320"/>
            <a:ext cx="1905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7527.</a:t>
            </a:r>
            <a:fld id="{2353DADD-458F-49AA-A2E2-CC4031D5483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3"/>
          </p:nvPr>
        </p:nvSpPr>
        <p:spPr>
          <a:xfrm>
            <a:off x="3117600" y="6683040"/>
            <a:ext cx="289548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94292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42923"/>
                </a:solidFill>
                <a:latin typeface="Arial"/>
              </a:rPr>
              <a:t>Sensitive But Unclassified (SBU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345960" y="1057320"/>
            <a:ext cx="8616960" cy="537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270000" indent="-230400">
              <a:buClr>
                <a:srgbClr val="94292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-171360">
              <a:buClr>
                <a:srgbClr val="060a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-2300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9080" indent="-111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604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604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604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44640" y="-360"/>
            <a:ext cx="719928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Ongoing Ares V Trad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45960" y="1057320"/>
            <a:ext cx="8616960" cy="537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0000" indent="-230400">
              <a:buClr>
                <a:srgbClr val="94292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site case/HTPB solid rocket boo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30400">
              <a:buClr>
                <a:srgbClr val="94292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30400">
              <a:buClr>
                <a:srgbClr val="94292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Core for PBAN and HTPB Boo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30400">
              <a:buClr>
                <a:srgbClr val="94292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30400">
              <a:buClr>
                <a:srgbClr val="94292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load shroud Shape Optimization Tra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30400">
              <a:buClr>
                <a:srgbClr val="94292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30400">
              <a:buClr>
                <a:srgbClr val="94292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e stage engine lay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30400">
              <a:buClr>
                <a:srgbClr val="94292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30400">
              <a:buClr>
                <a:srgbClr val="94292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Structural Lander Shroud Adapt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30400">
              <a:buClr>
                <a:srgbClr val="94292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-Orbit Loiter Module vs Integrated Avion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30400">
              <a:buClr>
                <a:srgbClr val="94292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30400">
              <a:buClr>
                <a:srgbClr val="94292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e Stage vs EDS Staging Poi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30400">
              <a:buClr>
                <a:srgbClr val="94292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30400">
              <a:buClr>
                <a:srgbClr val="94292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s I Upper Stage / EDS Commonality Systems Tra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30400">
              <a:buClr>
                <a:srgbClr val="94292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30400">
              <a:buClr>
                <a:srgbClr val="94292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e Missions Use Desig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-57240" y="6675480"/>
            <a:ext cx="2638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ational Aeronautics and Space Administration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7289640" y="6673680"/>
            <a:ext cx="19051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7527.</a:t>
            </a:r>
            <a:fld id="{896A51FB-6FA3-4DE8-AA41-54709B0AC34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oseph Eversole</cp:lastModifiedBy>
  <cp:lastPrinted>2008-06-11T21:39:44Z</cp:lastPrinted>
  <dcterms:modified xsi:type="dcterms:W3CDTF">2008-07-25T19:43:01Z</dcterms:modified>
  <cp:revision>188</cp:revision>
  <dc:subject/>
  <dc:title>PowerPoint Presentation</dc:title>
</cp:coreProperties>
</file>