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42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3FC-F4E0-4678-B2B0-70CCA819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C84-44F8-4C4C-B13F-42C12B25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FBF-A5AE-4010-AEF8-79329117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0F1-A092-48C6-9324-96C025B8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BDD7-E23A-4942-80BD-8F246E8E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DE19-A10A-40E4-AF44-1A0383AE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87C4-08D9-4371-827B-B9762BAD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0680-3205-466B-9A55-2492A1B8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62D1-39F2-412F-802B-16E2BE69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95D3-1DE8-4093-9920-DC2F0491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05CC-11CF-4544-87B0-3C0E1570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4C9-ECE5-49BF-A584-0986218A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6213-AF20-42C2-919F-48955B16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DE8B-F2AF-4EA0-B996-E45DE056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1547-6039-47D5-A388-BDC477A3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DB30-4E80-4061-9278-791CE8AE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812D-A385-4C19-B003-BF7005FA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7E7-8173-48C5-B6F1-B58F4A91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BD6-8C61-4746-A31C-B904693F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3DA-F30A-4192-A7D6-0C71570A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3F0-585D-4DC9-B329-AA5BA036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676-E027-40A5-8C24-B53CBD9D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822-B483-474D-9D0F-6E2EE02C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EA2-6F1F-4B96-ACB2-D7055ADD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51C-0643-4601-A115-6CAA32DF625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B560-0799-4A69-8EFD-1551BA29D4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B5D4-EBF0-4644-ACF5-56C27693CE1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9E64-2A09-49EF-8761-44BC9BFD53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Ronnee.R.Gonzalez@nasa.gov" TargetMode="External"/><Relationship Id="rId2" Type="http://schemas.openxmlformats.org/officeDocument/2006/relationships/hyperlink" Target="mailto:Jill.Willard-1@nasa.gov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Kelly.L.Garcia@nasa.gov" TargetMode="External"/><Relationship Id="rId2" Type="http://schemas.openxmlformats.org/officeDocument/2006/relationships/hyperlink" Target="http://amesnews.arc.nasa.gov/foia/index.html" TargetMode="External"/><Relationship Id="rId3" Type="http://schemas.openxmlformats.org/officeDocument/2006/relationships/hyperlink" Target="mailto:foia@arc.nasa.go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400800" y="5334120"/>
            <a:ext cx="2514600" cy="1252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1190520" cy="1266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space Testing and Facilities Operations and Maintenanc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TOM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olicitation Confere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NA08220778R-AM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ember 9,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850"/>
              </a:spcBef>
              <a:spcAft>
                <a:spcPts val="4249"/>
              </a:spcAft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301fb"/>
                </a:solidFill>
                <a:latin typeface="Arial"/>
              </a:rPr>
              <a:t>561210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Facility Support Servic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850"/>
              </a:spcBef>
              <a:spcAft>
                <a:spcPts val="4249"/>
              </a:spcAft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ze Standard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$35.5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685800"/>
            <a:ext cx="7673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NAIC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C97-3BC2-4A80-A816-A99977C276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PECIFIC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CUREMENT INFORM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01fb"/>
                </a:solidFill>
                <a:latin typeface="Arial"/>
              </a:rPr>
              <a:t>QUESTIONS/COM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01fb"/>
                </a:solidFill>
                <a:latin typeface="Arial"/>
              </a:rPr>
              <a:t>ARE REQUES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01fb"/>
                </a:solidFill>
                <a:latin typeface="Arial"/>
              </a:rPr>
              <a:t>ON ALL AREAS OF THE DR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4D8-C4AA-4734-ABC5-752EEE2A39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 REQUI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ll and Open 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, Maintenance, and Repair of Testing and other ground-based facilities at 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s suppor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 – Wind Tunnel Operations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F – ThermoPhysics Facilities 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05F-5947-4A81-91C7-C2681D3462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SPECIAL CONTRACT REQUIREMEN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.10  INCENTIVE FEE PROCESS (Chart 2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.2  ORGANIZATIONAL CONFLICTS OF INTEREST, AND LIMITATION OF FUTURE CONTRAC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ractor shall not, during the performance of the contract and for a period of three years following completion of performance thereof engage in the following activities: Design, develop, or produce aircraft, airframes, aircraft engines, advanced aerospace vehicles, or Thermal Protection Materials and Thermal Protection Systems such as heat shields for atmospheric re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CI Mitigation Plan is required with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EAC-9054-4DCD-8730-88555631AE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CIAL CONTRAC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.15 ARC 52.231-91 CONTRACTOR PURCHA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tractor shall not perform purchasing functions or act in any other way as an agent for the govern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.16 NON-PERSON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tractor shall not perform any inherently governmental actions under this contrac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ontractor employee will be directly supervised by the Govern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achment J.1(a)(10) DOD Contract Security Classification Specification (DD2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ctor Facility Clearance Level - Secr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020-FEED-4D47-9F4C-2F3D280B41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BUSINESS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.14  SMALL DISADVANTAGED BUSINESS PARTICIPATION – CONTRACT TARGETS (Offeror Fill-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tion L: Small Business Utilization Subfactor (writte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e due from Large and Small Bus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133-32E6-46E8-AFF7-31515EEBAE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BUSINESS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1426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IS REQUIR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 Business - 25%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 Disadvantaged Business - 8.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men-Owned Small Business - 5.0%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torically Black Colleges &amp; Universities/ Other Minority Educational Institutions           (HBCU/OMEI) - 0.5%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BZone Small Business - 3.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teran-Owned Small Business - 3.0%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-Disabled Veteran-Owned Small Business - 1.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6E8-3841-443C-AFFE-23F320BD68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CITATION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.7 Proposal Page Lim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71600" y="1676520"/>
          <a:ext cx="7238880" cy="39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723888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23880" y="5562720"/>
            <a:ext cx="7162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limits apply only to content pages.  Paragraph L.7(c) lists page types which are not affected by this lim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Key Personnel written response, commitment letters are limited to one page per individual; resumes are limited to 3 pages total per individua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limit to length of past performance questionnaire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C83-9162-4550-AB74-A6BDAB3410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CITATION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 Suitability Proposals: Oral and Writ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.8 Instructions for Oral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um 5 Attendees – All must be Present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-148320">
              <a:spcBef>
                <a:spcPts val="4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-148320">
              <a:spcBef>
                <a:spcPts val="4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re than 4 of the Offeror’s Key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-148320">
              <a:spcBef>
                <a:spcPts val="4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last minute sub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um 75 sl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um 90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62320" y="3809880"/>
          <a:ext cx="8381880" cy="22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809880"/>
                    <a:ext cx="8381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DE9-4FC9-4788-A508-9D90CD4F84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CITATION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 Suitability Proposals: Oral and Writt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.9 Proposal Prepar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90720" y="2286000"/>
          <a:ext cx="6933960" cy="39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693396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ED1-F582-4B12-8B8C-D161AC6CB6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:00-9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and Procurement Over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:30-10: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in W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Tunnel Ov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-10: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 Nick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Jet Complex Ov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-11: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e Ra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/Discu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30-12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r of Fac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:00-3: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 Nickison &amp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e Ra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EBE-6F3C-46F5-A783-7455230AFAB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CITATION INFORMA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 Suitability Subfactor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380880" y="2133720"/>
          <a:ext cx="9905760" cy="382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133720"/>
                    <a:ext cx="990576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C93-5BC4-438E-9FF7-A32FA56DA8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CITATION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st Perform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Page Lim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mit to length of past performance questionnaire 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ment J.1(b)1 contains the Government’s estimated hours for all the non-management direct labor, (i.e. labor other than program management) with position descriptions/catego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nual rate 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labor esca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value of $15M for Other Direct Costs (ODC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Cost Exhibits - Attachment J.1(b)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0C4-4F86-4370-BCD1-C70B1FE85D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NED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Aw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finite Delivery Indefinite Quantity (IDIQ) with Contract Task Orders (C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-Plus-Incentive-Fee (CPIF) with Cost and Performance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-Based 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Performa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year base period (including 30-day Phase-I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1-year priced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E45-1DE4-4569-9EA9-5B604E122C1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WARD WITHOUT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S 1815.209 and FAR 52.215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 for and intended method of competition is award without 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hold discussions if in best interest of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or’s intention to take exceptions to terms and conditions should be communicated to the Contracting Officer BEFORE offers are 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0A5-1743-4644-A299-9A63F7098AA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FINITE DELIVERY INDEFINITE QUANT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 &amp; NFS IDIQ and Ordering clauses included in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: $3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: $200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iling on Indirect Rates – Clause B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Item 03: Other Direct Co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-only (no fee)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, Travel,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671-288D-43FE-B00A-6F336BDB2F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ENTIVE F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 G.10 – Incentive Fee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O Fee – Fee based on CTO Negoti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st Plus Percentage of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illance and Incentive Fe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ment J.1(a)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, Earned, and Paid at conclusion of 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9E5-95F7-4735-9CC1-11A2D8404A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ENTIVE FE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Estimated Pool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– 2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– 7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Performance Incentive score of 85 required to earn Cost Inc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use B.6 – Estimated Cost and Fe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, Target, Maximum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Ratios (Government/Contr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run (up to Maximum Fee): 70%/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run (down to Minimum Fee): 50%/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7E0-DFE3-49BE-833E-3AE838B3C1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SCHEDULE</a:t>
            </a:r>
            <a:br>
              <a:rPr sz="49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Tentativ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00ff"/>
              </a:buClr>
              <a:buSzPct val="75000"/>
              <a:buFont typeface="Arial"/>
              <a:buChar char=" "/>
              <a:tabLst>
                <a:tab algn="l" pos="80028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ynopsis Issu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ctober 17,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00ff"/>
              </a:buClr>
              <a:buSzPct val="75000"/>
              <a:buFont typeface="Arial"/>
              <a:buChar char=" "/>
              <a:tabLst>
                <a:tab algn="l" pos="80028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aft RFP Issued                     November 26, 2008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00ff"/>
              </a:buClr>
              <a:buSzPct val="75000"/>
              <a:buFont typeface="Arial"/>
              <a:buChar char=" "/>
              <a:tabLst>
                <a:tab algn="l" pos="80028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solicitation Confere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mber 9,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00ff"/>
              </a:buClr>
              <a:buSzPct val="75000"/>
              <a:buFont typeface="Arial"/>
              <a:buChar char=" "/>
              <a:tabLst>
                <a:tab algn="l" pos="80028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Questions/Comments Du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anuary 9,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00ff"/>
              </a:buClr>
              <a:buSzPct val="75000"/>
              <a:buFont typeface="Arial"/>
              <a:buChar char=" "/>
              <a:tabLst>
                <a:tab algn="l" pos="80028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l RFP issu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Quarter FY 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00ff"/>
              </a:buClr>
              <a:buSzPct val="75000"/>
              <a:buFont typeface="Arial"/>
              <a:buChar char=" "/>
              <a:tabLst>
                <a:tab algn="l" pos="80028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ipt of Proposal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Quarter FY 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00ff"/>
              </a:buClr>
              <a:buSzPct val="75000"/>
              <a:buFont typeface="Arial"/>
              <a:buChar char=" "/>
              <a:tabLst>
                <a:tab algn="l" pos="80028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ract Awar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00ff"/>
              </a:buClr>
              <a:buSzPct val="75000"/>
              <a:buFont typeface="Arial"/>
              <a:buChar char=" "/>
              <a:tabLst>
                <a:tab algn="l" pos="80028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hase-I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00ff"/>
              </a:buClr>
              <a:buSzPct val="75000"/>
              <a:buFont typeface="Arial"/>
              <a:buChar char=" "/>
              <a:tabLst>
                <a:tab algn="l" pos="80028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ract Period begin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ugust 1,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342-73A2-4673-ACE3-A28669D2C4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01fb"/>
                </a:solidFill>
                <a:latin typeface="Arial"/>
              </a:rPr>
              <a:t>QUESTIONS AND COMMENTS ARE REQUESTED ON ALL AREAS OF THE DRF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01fb"/>
                </a:solidFill>
                <a:latin typeface="Arial"/>
              </a:rPr>
              <a:t>QUESTIONS AND COMMENTS DUE 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01fb"/>
                </a:solidFill>
                <a:latin typeface="Arial"/>
              </a:rPr>
              <a:t>JANUARY 9,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EBA-725F-4771-AE81-3132587603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UREMEN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questions on either the Draft Request For Proposal (DRFP) or this conference should be submitted in writing by January 9, 2009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onnee.R.Gonzalez@nasa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b1b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ill.Willard-1@nasa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932-A68B-419F-B805-6E03CA98FF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Guid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revisions to the DRFP will be in writing and subsequently confirmed in the Final R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s black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be invoked when Final RFP iss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hing said here today should be construed as a revision unless it is subsequently confirmed in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F8B-26DC-4DE7-A608-6AC1072380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ctronic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SA/ARC Business Opportunities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procurement.nasa.gov/EPS/ARC/clas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olicitation and any documents related to NNA08220778R-AMA, including the Interested Parties List, are available at the above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charts and the presolicitation conference attendance list will be posted to the above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C1E-9682-45D7-971F-DBF0072F5D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AIL NO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 Notification Tab on NASA/ARC Business Opportunities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procurement.nasa.gov/EPS/ARC/clas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 notification based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S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acquisi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or Servi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8FD-A73D-42B5-9A6B-A3166E916F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edom of Information Act (FOIA) Re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9640" y="1754280"/>
            <a:ext cx="77835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for information on current contract require a FOIA requ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prietary information can be disclo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that can be disclosed without FOIA requ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ct numb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of incumb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ct value, and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4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iod of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B92-FE06-488B-838B-83A64D7281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edom of Information Act (FOIA) Request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olicitation is for a recompetition of the following contr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Number:  NNA04BA85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:  Jacobs Technology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Value:  approx. $12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Contract:  CPIF/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e Fee:  Cost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Fee:  Technical Performance, Timeliness, and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of Performance:  7/1/04-7/31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3ED-DC36-49EF-9810-E93B809D43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 FOIA Request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460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IA Public Liaison Officer: Kelly Gar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SA Ames Research 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e VCP, M/S 943-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ffett Field, CA  94035-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Kelly.L.Garcia@nasa.go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mesnews.arc.nasa.gov/foia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460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FOIA Requests to: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oia@arc.nasa.gov</a:t>
            </a:r>
            <a:br>
              <a:rPr sz="2600"/>
            </a:br>
            <a:r>
              <a:rPr b="0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9DE-1C79-4B60-A3C6-4DD7DBA0870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3T14:55:27Z</dcterms:created>
  <dc:creator>G. Warren Hall, Q/Director</dc:creator>
  <dc:description/>
  <dc:language>en-US</dc:language>
  <cp:lastModifiedBy>rawong</cp:lastModifiedBy>
  <cp:lastPrinted>1999-05-04T16:06:44Z</cp:lastPrinted>
  <dcterms:modified xsi:type="dcterms:W3CDTF">2009-01-05T22:20:38Z</dcterms:modified>
  <cp:revision>135</cp:revision>
  <dc:subject/>
  <dc:title>Safety &amp; Mission Assu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dq.arc.nasa.gov/</vt:lpwstr>
  </property>
  <property fmtid="{D5CDD505-2E9C-101B-9397-08002B2CF9AE}" pid="9" name="LinkColor">
    <vt:r8>16711782</vt:r8>
  </property>
  <property fmtid="{D5CDD505-2E9C-101B-9397-08002B2CF9AE}" pid="10" name="MailAddress">
    <vt:lpwstr>phogan@mail.arc.nasa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safety-week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