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805597-0BE9-4D0E-A068-DF0E1F27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s.gov XML and other related top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 schemas are tailored specifically for one particula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form will have Form schema counter-part, there’s a one to one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 schemas can either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 specific or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y are not, then they can be reused by other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mmarize what we have covered so far, here is is a pictorial representation of the RR Performance Site schema that shows the use of system schemas to create a form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 designed to hold site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both global library and attachment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Lib:OrganizationData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:AttachedFileData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schemas, in turn, define what forms are included that make up the XML application for the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ies decide which forms each opportunity may have.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schemas consist of import and reference statements to other schemas and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example of an opportunity schema that requires the RR_SF424 and lets the applicant optionally add other RR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pportunity will import the header, footer, and all the RR form schemas then reference the individual elements needed to create the opport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ort and refer paradigm is used throughout the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er, footer, and global library schemas import the global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 schemas import the global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opportunity schema imports the header, form, and footer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other schemas that are not shown here (like the attachment schema) but the same idea applie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paces found at top of schem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for the word “targetNamespa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shown here is for the global library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globlib prefix on the third line.  This is an alias to the actual name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 namespace must be used in your application XML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 schema validation will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application XML must use the exact namespace provided by grants.gov for the XML to be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t the alias (also called the prefix) can be anything and your XML will still be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that, it is still to your advantage to use the save namespace aliases that are used in the grants.gov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consistency and interop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chema locations exist and they do not follow the rules, the application XML will be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curity precaution to prevent the access of server resources by referring to the resources via the schema location U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y the formatting or rearranging of the XML text to be in a specific way every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would be encoding all XML documents as UTF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other example is changing all line-feeds and carriage returns to a hex-decimal entity equi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goal is to get two logically equivalent XML documents to look exactly the same no matter how it was wri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is is achieved, we can hash the XML bytes into a consist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assures a consistent hash value no mater what parse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nly hiccup to this is the namespace aliasing that we just discu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F-8 e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all line breaks to #x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 res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ATA sections replaced with character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D declarations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elements to start/end tag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space outside document and within start and end tags norm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space character contents re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quotes for attribute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extra namespace decl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default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betized order on namespace declarations and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several canonical forms a XML document may adher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use the exclusive canonical form because the hash is only taken over the &lt;grant:Forms&gt;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canonicalization should only be limited to the same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nonical form to use is “Exclusive XML Canonicaliz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tandard excludes namespaces and attributes under those namespaces that are not part of the canonicalized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tects the canonicalized results from being affected by namespaces that are outside of the canonicalized sub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fore submitting to grants.gov, the application XML must be validated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XML will have schema locations referring to system identifiers that are URL’s to remote schemas hosted on a grants.gov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remote URL’s will cause your system to access the internet every time you validate for every schema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sults in longer processing times due to network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olution to this problem is to use XML cataloging.  XML cataloging can be use to map remote schema locations to local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solution with huge benef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asis organization has established a standard for how the catalog should be re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cataloging, you would need to change every schema location to a local U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free the system from network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ing software is simple to setup.  In fact, the reference implementation was configured to use XML cataloging with changes to just two lines of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s are XML documents that describe the mapping between external identifiers and an URI of your choo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atalogs follow a schema that is published by the OASIS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re we are showing a sample of what your catalog XML file would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XML is basically a list of system identifiers and URI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eneral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is for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a particular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system and form schema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a complete grant opportunity application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chemas are designed in a hierarchical way where Opportunity schemas are built from Form and System schemas and Form schemas are built with System schemas.  This desig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us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XML structures that appear in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riefly go ove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type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length restricted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range restricted numerical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s of elements that are heavily used throughout all grants.gov sch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ddressing the application to intended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number must be given so that is can be associated with the correct grant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DA number and/or Competition ID may also be needed depending on whether the opportunity was published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opportunity was published with a CFDA number and/or Competition ID, then applicant must also supply the same for the combination will be the unique identifier.  If not, the submission will be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XML structure for application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name is self explan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ime-type or content-type (for those who are familiar with HTTP response headers) is the standard representation (given by RFC 1522) of the document type being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ent-ID can be anything of your cho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must refer to a content-ID in the soap attachment part of the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ash element expect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dig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attachment that 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se6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enc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Library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 to Global schema, they both define types to be reused so that grants.Gov XML can be standardized and con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s in the global schema are more rudi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as the global library schema defines more complex structures and utilizes the primative types in the Globa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 Codes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lds standard abbreviations for state, country, and curr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S2S Pilot Workshop      PAGE </a:t>
            </a:r>
            <a:fld id="{A799FDD2-CAE9-4362-8DEC-C121DAD4B13E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2001/REC-xml-c14n-20010315" TargetMode="External"/><Relationship Id="rId2" Type="http://schemas.openxmlformats.org/officeDocument/2006/relationships/hyperlink" Target="http://www.w3.org/TR/2001/REC-xml-c14n-20010315" TargetMode="External"/><Relationship Id="rId3" Type="http://schemas.openxmlformats.org/officeDocument/2006/relationships/hyperlink" Target="http://www.w3.org/TR/2001/REC-xml-c14n-20010315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XML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10080" y="4876560"/>
            <a:ext cx="3353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Form Type Sche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1523880"/>
            <a:ext cx="675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ant application form within an opportunity has its own sch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ormsList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800600" cy="3547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r_perfsite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5037120" cy="427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Form Schema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1447920"/>
            <a:ext cx="2286000" cy="14475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267080"/>
            <a:ext cx="2209680" cy="16002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58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486040" y="48002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Opportunity Type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oppSchema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78168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SDF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0848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Building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813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42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24280" y="28195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724280" y="4191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43792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79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437920" y="3657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Grants.gov Schema Name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Schema Name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l namespaces can be found in their respective schem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amespace2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092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Use Consistent Namespace Ali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523880"/>
            <a:ext cx="6759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recommends the convention of using the same namespace aliases that are in the system and form schem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lias1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6324480" cy="1596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1" name="alias2" descr=""/>
          <p:cNvPicPr/>
          <p:nvPr/>
        </p:nvPicPr>
        <p:blipFill>
          <a:blip r:embed="rId2"/>
          <a:stretch/>
        </p:blipFill>
        <p:spPr>
          <a:xfrm>
            <a:off x="2057400" y="4191120"/>
            <a:ext cx="6629400" cy="167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Schema Lo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523880"/>
            <a:ext cx="6759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rules for schema loc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hema location reference do not need to be in the application XM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schema locations exist, they must refer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mitted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s/schemas, system/schemas, system/schemas/applicant, or opportunities/schemas/applicant subfold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Type declarations are not allow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ing XML before hash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ed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523880"/>
            <a:ext cx="6759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ting an XML document according to published specifications given by W3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y should it be don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give the same lexical structure to XML document that are logically equival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oal is to produce XML files that are bit-wise equival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s.gov Sche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ma Namesp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ization of 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Canonicalized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675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ants.gov is using the “Exclusive XML Canonicalization” form with the omit comments option active (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1"/>
              </a:rPr>
              <a:t>http://www.w3.org/TR/2001/REC-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2"/>
              </a:rPr>
              <a:t>xml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ea typeface="Times New Roman"/>
                <a:hlinkClick r:id="rId3"/>
              </a:rPr>
              <a:t>-c14n-2001031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subnode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6210360" cy="2552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523880"/>
            <a:ext cx="6759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tool to map public and/or system identifiers to an alternate U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asis XML Cataloging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y should it be u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asy way to map remote resources, like schemas, to local 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XML Cataloging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523880"/>
            <a:ext cx="6759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ed with an XML file following the Oasis standa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catalog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7503840" cy="205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90640" y="1671480"/>
            <a:ext cx="3762720" cy="351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514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types of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y sch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rants.gov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hemas" descr=""/>
          <p:cNvPicPr/>
          <p:nvPr/>
        </p:nvPicPr>
        <p:blipFill>
          <a:blip r:embed="rId1"/>
          <a:stretch/>
        </p:blipFill>
        <p:spPr>
          <a:xfrm>
            <a:off x="5116680" y="2209680"/>
            <a:ext cx="3627360" cy="377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ystem Type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523880"/>
            <a:ext cx="6759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ive system sche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Glob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usable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global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705720" cy="333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header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648320" cy="4244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Header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523880"/>
            <a:ext cx="675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s the agency, applicant, and grant opportun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Attachment Sche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523880"/>
            <a:ext cx="6759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olds information about attachments submitted with the grant applic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type (MIME/DIM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ttachment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49568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Global Library and Universal Cod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523880"/>
            <a:ext cx="675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lobal Library contains commonly used XML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versal Codes schema keeps constant values for commonly used abbrevi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ddress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3048120" cy="2647800"/>
          </a:xfrm>
          <a:prstGeom prst="rect">
            <a:avLst/>
          </a:prstGeom>
          <a:ln w="0">
            <a:noFill/>
          </a:ln>
        </p:spPr>
      </p:pic>
      <p:pic>
        <p:nvPicPr>
          <p:cNvPr id="112" name="name" descr=""/>
          <p:cNvPicPr/>
          <p:nvPr/>
        </p:nvPicPr>
        <p:blipFill>
          <a:blip r:embed="rId2"/>
          <a:stretch/>
        </p:blipFill>
        <p:spPr>
          <a:xfrm>
            <a:off x="1905120" y="33526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Vincent McCullough</dc:creator>
  <dc:description/>
  <dc:language>en-US</dc:language>
  <cp:lastModifiedBy>David Wong</cp:lastModifiedBy>
  <dcterms:modified xsi:type="dcterms:W3CDTF">2005-03-29T16:48:40Z</dcterms:modified>
  <cp:revision>122</cp:revision>
  <dc:subject/>
  <dc:title>Background – Agency Web Services</dc:title>
</cp:coreProperties>
</file>