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2.wmf" ContentType="image/x-wmf"/>
  <Override PartName="/ppt/media/image7.gif" ContentType="image/gif"/>
  <Override PartName="/ppt/media/image8.jpeg" ContentType="image/jpeg"/>
  <Override PartName="/ppt/media/image9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7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37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52120" y="204480"/>
            <a:ext cx="67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37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3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75212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037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3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04480"/>
            <a:ext cx="67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542"/>
          <a:stretch/>
        </p:blipFill>
        <p:spPr>
          <a:xfrm>
            <a:off x="6095880" y="5889600"/>
            <a:ext cx="3048120" cy="8031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220680">
              <a:lnSpc>
                <a:spcPct val="110000"/>
              </a:lnSpc>
              <a:spcBef>
                <a:spcPts val="1100"/>
              </a:spcBef>
              <a:buClr>
                <a:srgbClr val="e39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92320">
              <a:lnSpc>
                <a:spcPct val="110000"/>
              </a:lnSpc>
              <a:spcBef>
                <a:spcPts val="1100"/>
              </a:spcBef>
              <a:buClr>
                <a:srgbClr val="e39300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752480" y="6448320"/>
            <a:ext cx="4192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13c8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3c82"/>
                </a:solidFill>
                <a:latin typeface="Arial"/>
              </a:rPr>
              <a:t>Applicant S2S Pilot Workshop      PAGE </a:t>
            </a:r>
            <a:fld id="{9466485C-2DEF-4158-879C-951ADCEF7D8C}" type="slidenum">
              <a:rPr b="0" lang="en-US" sz="1200" spc="-1" strike="noStrike">
                <a:solidFill>
                  <a:srgbClr val="213c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38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3985920"/>
            <a:ext cx="68677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720" algn="ctr">
              <a:lnSpc>
                <a:spcPct val="110000"/>
              </a:lnSpc>
              <a:spcBef>
                <a:spcPts val="901"/>
              </a:spcBef>
              <a:buClr>
                <a:srgbClr val="e39300"/>
              </a:buClr>
              <a:buSzPct val="13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6520" algn="ctr">
              <a:lnSpc>
                <a:spcPct val="110000"/>
              </a:lnSpc>
              <a:spcBef>
                <a:spcPts val="901"/>
              </a:spcBef>
              <a:buClr>
                <a:srgbClr val="e39300"/>
              </a:buClr>
              <a:buSzPct val="13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rants.gov/WebServices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22600" y="1190520"/>
            <a:ext cx="7257960" cy="2419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3657240"/>
            <a:ext cx="74678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Applicant S2S Pilot Workshop</a:t>
            </a:r>
            <a:br>
              <a:rPr sz="3600"/>
            </a:b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Web Services</a:t>
            </a: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Security</a:t>
            </a: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31840" y="5405400"/>
            <a:ext cx="881280" cy="893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08080" y="5775480"/>
            <a:ext cx="68421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Managed by the U.S. Department of Health and Human Services</a:t>
            </a:r>
            <a:br>
              <a:rPr sz="1300"/>
            </a:b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Fulfilling the President’s Management Age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952880"/>
            <a:ext cx="47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 So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52480" y="1143000"/>
            <a:ext cx="6705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nt S2S System Integration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hing Process for File Attac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Secure Hash Algorithm (SHA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Base64 Enco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Insert into Attachment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hing Process for Grant Application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Canonicalize the XML 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SHA-1 and Base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Insert into Header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380880"/>
            <a:ext cx="675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Hashing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120" y="99036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41c4"/>
                </a:solidFill>
                <a:latin typeface="Times New Roman"/>
              </a:rPr>
              <a:t>How Do You Sign Up?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3382920" cy="2343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-7632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Applicant S2S Registration Proces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295280"/>
            <a:ext cx="6781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Grants.gov SI Team the following inf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 Copy of your Signed Public Certific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 Your Organization’s DUNS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 Email Address for Notif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 Authorized Organization Representative (AOR)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I Team Creates your User Acco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Your E-biz POC Grants AOR Privileg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Production Onl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41c4"/>
                </a:solidFill>
                <a:latin typeface="Times New Roman"/>
              </a:rPr>
              <a:t>Question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0920" y="1143000"/>
            <a:ext cx="1622160" cy="393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22600" y="1190520"/>
            <a:ext cx="7257960" cy="2419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3657240"/>
            <a:ext cx="74678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Applicant S2S Pilot Workshop</a:t>
            </a:r>
            <a:br>
              <a:rPr sz="3600"/>
            </a:b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Test Plan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31840" y="5405400"/>
            <a:ext cx="881280" cy="893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08080" y="5775480"/>
            <a:ext cx="68421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Managed by the U.S. Department of Health and Human Services</a:t>
            </a:r>
            <a:br>
              <a:rPr sz="1300"/>
            </a:b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Fulfilling the President’s Management Age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49528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 So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Overview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 You Rea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t’s Get Star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5248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ubleshooting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Application 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rify Expec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Purp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59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41c4"/>
                </a:solidFill>
                <a:latin typeface="Times New Roman"/>
              </a:rPr>
              <a:t>Are You Ready?</a:t>
            </a:r>
            <a:br>
              <a:rPr sz="3600"/>
            </a:b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3762360" cy="3514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524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Adequate Technical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Minimal Assistance from Grants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iminary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Applicant Integration Documents (</a:t>
            </a:r>
            <a:r>
              <a:rPr b="0" lang="en-US" sz="2400" spc="-1" strike="noStrike" u="sng">
                <a:solidFill>
                  <a:srgbClr val="6f8db9"/>
                </a:solidFill>
                <a:uFillTx/>
                <a:latin typeface="Arial"/>
                <a:hlinkClick r:id="rId1"/>
              </a:rPr>
              <a:t>http://www.grants.gov/WebServic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920" indent="-45720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WSDL, Schemas, Security, Test Pla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l and Test with the Reference Implementation (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304920"/>
            <a:ext cx="675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Are You Rea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52480" y="1143000"/>
            <a:ext cx="67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tion (cont’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your SOAP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Against the RI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y Connectivity to the Acceptance Testing (AT)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920" indent="-45720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https://atws.grants.gov:4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tain a CA Signed Certificat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304920"/>
            <a:ext cx="675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Are You Rea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Overview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b Services Securit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is Required of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w Do You Sign 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759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41c4"/>
                </a:solidFill>
                <a:latin typeface="Times New Roman"/>
              </a:rPr>
              <a:t>Let’s Get Started!</a:t>
            </a:r>
            <a:br>
              <a:rPr sz="3600"/>
            </a:b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315756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52480" y="1143000"/>
            <a:ext cx="65534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 Kickoff Teleconference with Grants.gov SI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920" indent="-45720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POC: Peter.Brunner@hhs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SI Team with Registration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e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grate to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304920"/>
            <a:ext cx="675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Let’s Get Start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41c4"/>
                </a:solidFill>
                <a:latin typeface="Times New Roman"/>
              </a:rPr>
              <a:t>Question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0920" y="1143000"/>
            <a:ext cx="1622160" cy="393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5248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tual Certificate Based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Way Ha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Web Services Secur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28600"/>
            <a:ext cx="675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41c4"/>
                </a:solidFill>
                <a:latin typeface="Times New Roman"/>
              </a:rPr>
              <a:t>Mutual</a:t>
            </a:r>
            <a:r>
              <a:rPr b="1" i="1" lang="en-US" sz="3600" spc="-1" strike="noStrike">
                <a:solidFill>
                  <a:srgbClr val="1841c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841c4"/>
                </a:solidFill>
                <a:latin typeface="Times New Roman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86800" cy="6324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6705720"/>
            <a:ext cx="533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0200" y="137160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Attac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t Application X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Apache XML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One-Way Ha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59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41c4"/>
                </a:solidFill>
                <a:latin typeface="Times New Roman"/>
              </a:rPr>
              <a:t>What is Required of You?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320040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52480" y="457200"/>
            <a:ext cx="675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Before You Buy A Certificat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121932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Implementation (RI) Key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 KeyStore allows you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Authenticate to the Acceptance Testing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2206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https://atws.grants.gov:4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Execute all of the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 Debug KeyStore and TrustStor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Verify Connectivity to Grants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Eliminate the X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52480" y="204840"/>
            <a:ext cx="675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Certificate</a:t>
            </a: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1841c4"/>
                </a:solidFill>
                <a:latin typeface="Times New Roman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1523880"/>
            <a:ext cx="7086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ervices Security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Domestic Strength Server Certific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SA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y Length Must be 1024 or 2048 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rial Number - Min 8 Hex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ed by a Recognized Certificate Authority (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228600"/>
            <a:ext cx="675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TrustStore</a:t>
            </a:r>
            <a:r>
              <a:rPr b="1" i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1841c4"/>
                </a:solidFill>
                <a:latin typeface="Times New Roman"/>
                <a:ea typeface="Times New Roman"/>
              </a:rPr>
              <a:t>Requirements</a:t>
            </a:r>
            <a:r>
              <a:rPr b="1" i="1" lang="en-US" sz="3600" spc="-1" strike="noStrike">
                <a:solidFill>
                  <a:srgbClr val="1841c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1143000"/>
            <a:ext cx="6759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st Contain Entrust Root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746748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0:54:43Z</dcterms:created>
  <dc:creator>Mark Sommer</dc:creator>
  <dc:description/>
  <dc:language>en-US</dc:language>
  <cp:lastModifiedBy>Northrop Grumman User</cp:lastModifiedBy>
  <dcterms:modified xsi:type="dcterms:W3CDTF">2005-03-29T18:18:05Z</dcterms:modified>
  <cp:revision>172</cp:revision>
  <dc:subject/>
  <dc:title>Background – Agency Web Services</dc:title>
</cp:coreProperties>
</file>