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8D711-6E66-4F17-8217-0C7E83D8B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A5FDA-DF3B-4E6A-9C79-E49B7488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6B603-AA83-478E-A864-3ABCBC7E5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14FF7-D391-4EB3-8AEC-D39C386B1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BFD88-9768-469E-8A56-942C8FCB0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662F6-8CBF-4AE3-8CB9-368BFDFBD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C7DD3-7311-4553-B7C8-34B30D8B8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D334A-C28C-4A97-8BE0-DC5606854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8380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09557-7CC2-415F-BA21-F566420B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BB11-6C22-45E8-BCED-22202FC1F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26C42-C04A-451B-AA63-C376428C9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CBAA6-10F8-4053-A3A6-EEC0ED640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6600"/>
              </a:gs>
              <a:gs pos="50000">
                <a:srgbClr val="ffffff"/>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DFDB-5BA1-4C32-AD1D-852F9FD6B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rcRect l="17266" t="0" r="5994" b="0"/>
          <a:stretch/>
        </p:blipFill>
        <p:spPr>
          <a:xfrm>
            <a:off x="0" y="0"/>
            <a:ext cx="91440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2949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ribal TANF and CCDF</a:t>
            </a:r>
            <a:br>
              <a:rPr sz="4800"/>
            </a:br>
            <a:r>
              <a:rPr b="1" lang="en-US" sz="4800" spc="-1" strike="noStrike">
                <a:solidFill>
                  <a:srgbClr val="000000"/>
                </a:solidFill>
                <a:latin typeface="Arial"/>
              </a:rPr>
              <a:t>Guide to</a:t>
            </a:r>
            <a:endParaRPr b="1" lang="en-US" sz="4800" spc="-1" strike="noStrike">
              <a:solidFill>
                <a:srgbClr val="000000"/>
              </a:solidFill>
              <a:latin typeface="Arial"/>
            </a:endParaRPr>
          </a:p>
        </p:txBody>
      </p:sp>
      <p:sp>
        <p:nvSpPr>
          <p:cNvPr id="44" name="PlaceHolder 2"/>
          <p:cNvSpPr>
            <a:spLocks noGrp="1"/>
          </p:cNvSpPr>
          <p:nvPr>
            <p:ph type="subTitle"/>
          </p:nvPr>
        </p:nvSpPr>
        <p:spPr>
          <a:xfrm>
            <a:off x="152280" y="3048120"/>
            <a:ext cx="8686800" cy="13716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inancial Management, Grants Administration, and Program Accoun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wipe(left)" transition="in">
                                      <p:cBhvr additive="repl">
                                        <p:cTn id="12"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ies</a:t>
            </a:r>
            <a:endParaRPr b="1" lang="en-US" sz="2400" spc="-1" strike="noStrike">
              <a:solidFill>
                <a:srgbClr val="000000"/>
              </a:solidFill>
              <a:latin typeface="Arial"/>
            </a:endParaRPr>
          </a:p>
        </p:txBody>
      </p:sp>
      <p:sp>
        <p:nvSpPr>
          <p:cNvPr id="62" name="PlaceHolder 2"/>
          <p:cNvSpPr>
            <a:spLocks noGrp="1"/>
          </p:cNvSpPr>
          <p:nvPr>
            <p:ph/>
          </p:nvPr>
        </p:nvSpPr>
        <p:spPr>
          <a:xfrm>
            <a:off x="380880" y="1828800"/>
            <a:ext cx="830592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ifications</a:t>
            </a:r>
            <a:endParaRPr b="0" lang="en-US" sz="28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grantee accepts Federal funding, they are asked to certify that they will adhere to certain cross-cutting requirements. These include, but are not limited to:</a:t>
            </a:r>
            <a:endParaRPr b="0" lang="en-US" sz="2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regarding debarment (includes definitions for use with the certification of debarment);</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HHS certification regarding drug-free workplace requirements;</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of compliance with the Pro-Child Act of 1994;</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of compliance with Title VI of the Civil Rights Act of 1964 (CCDF only); and</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 Non-Construction Programs (TANF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609480"/>
            <a:ext cx="90676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Grants Management Principles</a:t>
            </a:r>
            <a:endParaRPr b="1" lang="en-US" sz="4000" spc="-1" strike="noStrike">
              <a:solidFill>
                <a:srgbClr val="000000"/>
              </a:solidFill>
              <a:latin typeface="Arial"/>
            </a:endParaRPr>
          </a:p>
        </p:txBody>
      </p:sp>
      <p:sp>
        <p:nvSpPr>
          <p:cNvPr id="64" name="PlaceHolder 2"/>
          <p:cNvSpPr>
            <a:spLocks noGrp="1"/>
          </p:cNvSpPr>
          <p:nvPr>
            <p:ph/>
          </p:nvPr>
        </p:nvSpPr>
        <p:spPr>
          <a:xfrm>
            <a:off x="457200" y="2209680"/>
            <a:ext cx="8153280" cy="4267440"/>
          </a:xfrm>
          <a:prstGeom prst="rect">
            <a:avLst/>
          </a:prstGeom>
          <a:noFill/>
          <a:ln w="0">
            <a:noFill/>
          </a:ln>
        </p:spPr>
        <p:txBody>
          <a:bodyPr lIns="90000" rIns="90000" tIns="46800" bIns="46800" anchor="t">
            <a:normAutofit/>
          </a:bodyPr>
          <a:p>
            <a:pPr marL="45072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able Cost Determination</a:t>
            </a:r>
            <a:endParaRPr b="0" lang="en-US" sz="24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reasonable, necessary, and conform to limitations set forth in legislation, regulation, or circular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consistent with the grantee’s policies and procedures such as agency procurement policie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tees are required to determine and adequately document costs in accordance with Generally Accepted Accounting Principles (GAAP).</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also be “allocable” to a program to be allowable.  Costs can be allocated in one of three ways:</a:t>
            </a:r>
            <a:endParaRPr b="0" lang="en-US" sz="20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rtionate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rect co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872640"/>
            <a:ext cx="7772400" cy="32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6" name="PlaceHolder 2"/>
          <p:cNvSpPr>
            <a:spLocks noGrp="1"/>
          </p:cNvSpPr>
          <p:nvPr>
            <p:ph/>
          </p:nvPr>
        </p:nvSpPr>
        <p:spPr>
          <a:xfrm>
            <a:off x="456840" y="1980720"/>
            <a:ext cx="8077320" cy="4038840"/>
          </a:xfrm>
          <a:prstGeom prst="rect">
            <a:avLst/>
          </a:prstGeom>
          <a:noFill/>
          <a:ln w="0">
            <a:noFill/>
          </a:ln>
        </p:spPr>
        <p:txBody>
          <a:bodyPr lIns="90000" rIns="90000" tIns="46800" bIns="46800" anchor="t">
            <a:normAutofit/>
          </a:bodyPr>
          <a:p>
            <a:pPr marL="347760" indent="0">
              <a:lnSpc>
                <a:spcPct val="8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ipient/Subrecipient/Vendor Status</a:t>
            </a:r>
            <a:endParaRPr b="0" lang="en-US" sz="28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distinction between the status of recipient, subrecipient, and vendor. Federal awards expended as recipient or subrecipient are subject to audit under OMB Circular A-133. In contrast, a vendor supplies either goods or services.</a:t>
            </a:r>
            <a:endParaRPr b="0" lang="en-US" sz="20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for goods and services received by a vendor are when the organization:</a:t>
            </a:r>
            <a:endParaRPr b="0" lang="en-US" sz="20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the goods and services within normal business operation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similar goods/services to many different purchaser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es in a competitive environment; and</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goods or services that are ancillary to the operation of the Federal pro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8" name="PlaceHolder 2"/>
          <p:cNvSpPr>
            <a:spLocks noGrp="1"/>
          </p:cNvSpPr>
          <p:nvPr>
            <p:ph/>
          </p:nvPr>
        </p:nvSpPr>
        <p:spPr>
          <a:xfrm>
            <a:off x="304560" y="1523520"/>
            <a:ext cx="8458200" cy="49532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ligation and Liquid Period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CD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ribal Child Care (CCDF) program grantees have a two-year obligation period with an additional one-year liquidation period, with the exception of construction awards which have a three-year obligation/liquidation perio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AN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ibal TANF funds do not need to be obligated by the end of the funding period. A Tribe may reserve amounts awarded to it, without fiscal year limitation, to provide assistance under the Tribal TANF program. It may expend funds beyond the fiscal year in which awarded only on benefits that meet the definition of assistance at Sec. 286.10 and administrative costs directly associated with providing that </a:t>
            </a:r>
            <a:r>
              <a:rPr b="0" lang="en-US" sz="1800" spc="-1" strike="noStrike">
                <a:solidFill>
                  <a:srgbClr val="000000"/>
                </a:solidFill>
                <a:latin typeface="Times New Roman"/>
              </a:rPr>
              <a:t>assistance.  Under current rules, Tribal TANF grantees need to obligate current year funds on non-assistance activities before the end of that current fiscal year.  Current year funds that are obligated by the end of the current fiscal year may be carried into the immediately succeeding fiscal year to pay for those non-assistance activities.  These obligations must be liquidated by September 30 of the immediately succeeding Federal fiscal year. Any unliquidated amounts that remain will become unobligated funds, which would be carried into the following year fiscal year to use for assistance and associated administrative c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0" name="PlaceHolder 2"/>
          <p:cNvSpPr>
            <a:spLocks noGrp="1"/>
          </p:cNvSpPr>
          <p:nvPr>
            <p:ph/>
          </p:nvPr>
        </p:nvSpPr>
        <p:spPr>
          <a:xfrm>
            <a:off x="457200" y="1752480"/>
            <a:ext cx="8229600" cy="4648320"/>
          </a:xfrm>
          <a:prstGeom prst="rect">
            <a:avLst/>
          </a:prstGeom>
          <a:noFill/>
          <a:ln w="0">
            <a:noFill/>
          </a:ln>
        </p:spPr>
        <p:txBody>
          <a:bodyPr lIns="90000" rIns="90000" tIns="46800" bIns="46800" anchor="t">
            <a:normAutofit/>
          </a:bodyPr>
          <a:p>
            <a:pPr indent="0">
              <a:lnSpc>
                <a:spcPct val="9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ve TANF penalties can be imposed on Tribal grantees.  They are as follows:</a:t>
            </a:r>
            <a:endParaRPr b="0" lang="en-US" sz="20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of the amount by which a Tribe’s grant was used in violation of part IV-A of the Act, including providing assistance beyond the Tribe’s negotiated time limit, as determined by findings from a single audit;</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ddition to the amount misused, a penalty of five percent of the TANF grant as a result of audit findings which show that the Tribe intended to violate a provision of the Act;</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in the amount of the outstanding loan plus interest owed on the outstanding amount for failure to repay a federal loan;</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for failure to satisfy the minimum work participation rates; and</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of no more than two percent plus the amount a Tribe failed to expend of its own funds to replace the reduction in its grant due to the assessment of a penal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2" name="PlaceHolder 2"/>
          <p:cNvSpPr>
            <a:spLocks noGrp="1"/>
          </p:cNvSpPr>
          <p:nvPr>
            <p:ph/>
          </p:nvPr>
        </p:nvSpPr>
        <p:spPr>
          <a:xfrm>
            <a:off x="1066320" y="1676520"/>
            <a:ext cx="7086600" cy="5029200"/>
          </a:xfrm>
          <a:prstGeom prst="rect">
            <a:avLst/>
          </a:prstGeom>
          <a:noFill/>
          <a:ln w="0">
            <a:noFill/>
          </a:ln>
        </p:spPr>
        <p:txBody>
          <a:bodyPr lIns="90000" rIns="90000" tIns="46800" bIns="46800" anchor="t">
            <a:normAutofit/>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ministrative Costs</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bal TANF and Tribal Child Care programs both limit the amount of administrative cost that can be charg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sts include the organization-wide management functions of accounting;</a:t>
            </a:r>
            <a:endParaRPr b="0" lang="en-US" sz="24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dget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rol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 management</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4" name="PlaceHolder 2"/>
          <p:cNvSpPr>
            <a:spLocks noGrp="1"/>
          </p:cNvSpPr>
          <p:nvPr>
            <p:ph/>
          </p:nvPr>
        </p:nvSpPr>
        <p:spPr>
          <a:xfrm>
            <a:off x="533160" y="1676160"/>
            <a:ext cx="8305560" cy="4800600"/>
          </a:xfrm>
          <a:prstGeom prst="rect">
            <a:avLst/>
          </a:prstGeom>
          <a:noFill/>
          <a:ln w="0">
            <a:noFill/>
          </a:ln>
        </p:spPr>
        <p:txBody>
          <a:bodyPr lIns="90000" rIns="90000" tIns="46800" bIns="46800" anchor="t">
            <a:normAutofit fontScale="99000"/>
          </a:bodyPr>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CD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Child Care funding is broken down into three parts:</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dato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cretiona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ionary Funds </a:t>
            </a:r>
            <a:r>
              <a:rPr b="0" i="1" lang="en-US" sz="2400" spc="-1" strike="noStrike">
                <a:solidFill>
                  <a:srgbClr val="000000"/>
                </a:solidFill>
                <a:latin typeface="Times New Roman"/>
              </a:rPr>
              <a:t>base amount </a:t>
            </a:r>
            <a:r>
              <a:rPr b="0" lang="en-US" sz="2400" spc="-1" strike="noStrike">
                <a:solidFill>
                  <a:srgbClr val="000000"/>
                </a:solidFill>
                <a:latin typeface="Times New Roman"/>
              </a:rPr>
              <a:t>of $20,000</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total mandatory and discretionary expenditures, no more than 15% can be administrative</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N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ministrative costs cannot exceed</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in year 1</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in year 2</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in ye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6" name="PlaceHolder 2"/>
          <p:cNvSpPr>
            <a:spLocks noGrp="1"/>
          </p:cNvSpPr>
          <p:nvPr>
            <p:ph/>
          </p:nvPr>
        </p:nvSpPr>
        <p:spPr>
          <a:xfrm>
            <a:off x="533520" y="2362320"/>
            <a:ext cx="8076960" cy="312408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nalties and Disallowances</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bal TANF grantees face financial penalties if Federal funds are used in violation of the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8" name="PlaceHolder 2"/>
          <p:cNvSpPr>
            <a:spLocks noGrp="1"/>
          </p:cNvSpPr>
          <p:nvPr>
            <p:ph/>
          </p:nvPr>
        </p:nvSpPr>
        <p:spPr>
          <a:xfrm>
            <a:off x="609480" y="1752480"/>
            <a:ext cx="7925040" cy="4572000"/>
          </a:xfrm>
          <a:prstGeom prst="rect">
            <a:avLst/>
          </a:prstGeom>
          <a:noFill/>
          <a:ln w="0">
            <a:noFill/>
          </a:ln>
        </p:spPr>
        <p:txBody>
          <a:bodyPr lIns="90000" rIns="90000" tIns="46800" bIns="46800"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ed Financial Report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Child Care programs must submit the ACF-696T financial reporting form annuall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categories on the report include:</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administration;</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direct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ty activities; and</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renovation expenditur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TANF grantees are required to file quarterly expenditure data on a form prescribed by ACF. Tribes receiving direct funds (non-102-477) must use the SF-269 form until the Tribal TANF 196 form is approved. 102-477 Tribes must report on the 102-477 Tribal TANF report as a part of their 102-477 annual re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533520"/>
            <a:ext cx="84582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Financial Management Principles:  Federal Financial Management Requirements</a:t>
            </a:r>
            <a:endParaRPr b="1" lang="en-US" sz="3600" spc="-1" strike="noStrike">
              <a:solidFill>
                <a:srgbClr val="000000"/>
              </a:solidFill>
              <a:latin typeface="Arial"/>
            </a:endParaRPr>
          </a:p>
        </p:txBody>
      </p:sp>
      <p:sp>
        <p:nvSpPr>
          <p:cNvPr id="80" name="PlaceHolder 2"/>
          <p:cNvSpPr>
            <a:spLocks noGrp="1"/>
          </p:cNvSpPr>
          <p:nvPr>
            <p:ph/>
          </p:nvPr>
        </p:nvSpPr>
        <p:spPr>
          <a:xfrm>
            <a:off x="609480" y="2819520"/>
            <a:ext cx="7772400" cy="3200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ncial Syste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s are required to have financial management systems that provide for timely, accurate, current, and complete disclosure of financial information while providing for oversight and protection of Federal fu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90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6" name="PlaceHolder 2"/>
          <p:cNvSpPr>
            <a:spLocks noGrp="1"/>
          </p:cNvSpPr>
          <p:nvPr>
            <p:ph/>
          </p:nvPr>
        </p:nvSpPr>
        <p:spPr>
          <a:xfrm>
            <a:off x="533520" y="2362320"/>
            <a:ext cx="8076960" cy="3962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Care and Development Fund for Tribal Grantees (CCDF) </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 Care and Development Block Grant was enacted in 1990 to provide child care assistance to low income working families.</a:t>
            </a:r>
            <a:endParaRPr b="0" lang="en-US" sz="24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CDF assists low-income families, families receiving temporary public assistance, and those transitioning from public assistance in obtaining child care so they can work or attend training/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2" name="PlaceHolder 2"/>
          <p:cNvSpPr>
            <a:spLocks noGrp="1"/>
          </p:cNvSpPr>
          <p:nvPr>
            <p:ph/>
          </p:nvPr>
        </p:nvSpPr>
        <p:spPr>
          <a:xfrm>
            <a:off x="533520" y="1904760"/>
            <a:ext cx="81532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on financial management requirements inclu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and compliance requirements fulfilled and grant and contract funds expended appropriate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 records maintain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s safeguar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control systems adequ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policies and procedures developed and implement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allocated to the correct program based upon a cost allocation plan in cases where costs are shared by progra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audit performed if the Tribe receives over $500,000 from all federal funding 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837720"/>
            <a:ext cx="7619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4" name="PlaceHolder 2"/>
          <p:cNvSpPr>
            <a:spLocks noGrp="1"/>
          </p:cNvSpPr>
          <p:nvPr>
            <p:ph/>
          </p:nvPr>
        </p:nvSpPr>
        <p:spPr>
          <a:xfrm>
            <a:off x="533520" y="2361960"/>
            <a:ext cx="8229600" cy="388620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al controls</a:t>
            </a:r>
            <a:endParaRPr b="0" lang="en-US" sz="3600" spc="-1" strike="noStrike">
              <a:solidFill>
                <a:srgbClr val="000000"/>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nal controls are the systems established by a grantee agency’s governing body and/or administrative staff that are designed to provide reasonable assurance regarding the achievement of 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controls address the following six are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ness and efficiency of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of assets and records of the Tribe to protect against loss, theft, or misu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ce with applicable laws and reg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versight by the governing bo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erence to the Tribe’s policies and procedures; 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of financial repor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83772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8" name="PlaceHolder 2"/>
          <p:cNvSpPr>
            <a:spLocks noGrp="1"/>
          </p:cNvSpPr>
          <p:nvPr>
            <p:ph/>
          </p:nvPr>
        </p:nvSpPr>
        <p:spPr>
          <a:xfrm>
            <a:off x="685440" y="2438280"/>
            <a:ext cx="7924680" cy="36576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counting System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ounting department is responsible for the accounting record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d products of the accounting process are the financial statements that summarize all financial transactions of the Tribe and the program for the peri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90" name="PlaceHolder 2"/>
          <p:cNvSpPr>
            <a:spLocks noGrp="1"/>
          </p:cNvSpPr>
          <p:nvPr>
            <p:ph/>
          </p:nvPr>
        </p:nvSpPr>
        <p:spPr>
          <a:xfrm>
            <a:off x="533160" y="2285640"/>
            <a:ext cx="7924680" cy="3809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h Managemen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for minimizing the time elapsing between the transfer of funds from the U.S. Treasury and disbursement by grantees and subgrantees must be followed whenever advance payment procedures are us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83772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Federal Financial Management Requirements (cont.)</a:t>
            </a:r>
            <a:endParaRPr b="1" lang="en-US" sz="2400" spc="-1" strike="noStrike">
              <a:solidFill>
                <a:srgbClr val="000000"/>
              </a:solidFill>
              <a:latin typeface="Arial"/>
            </a:endParaRPr>
          </a:p>
        </p:txBody>
      </p:sp>
      <p:sp>
        <p:nvSpPr>
          <p:cNvPr id="92" name="PlaceHolder 2"/>
          <p:cNvSpPr>
            <a:spLocks noGrp="1"/>
          </p:cNvSpPr>
          <p:nvPr>
            <p:ph/>
          </p:nvPr>
        </p:nvSpPr>
        <p:spPr>
          <a:xfrm>
            <a:off x="762120" y="2057040"/>
            <a:ext cx="7696080" cy="426708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dits</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ies that expend more than $500,000 in Federal cash are required under OMB A-133 to have an audit completed each year.</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ancial audit is the process for testing the accuracy and completeness of information presented in the financial statements as well as evaluating the financia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8377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urement/Property</a:t>
            </a:r>
            <a:br>
              <a:rPr sz="4400"/>
            </a:br>
            <a:r>
              <a:rPr b="1" lang="en-US" sz="4400" spc="-1" strike="noStrike">
                <a:solidFill>
                  <a:srgbClr val="000000"/>
                </a:solidFill>
                <a:latin typeface="Arial"/>
              </a:rPr>
              <a:t>Requirements</a:t>
            </a:r>
            <a:endParaRPr b="1" lang="en-US" sz="4400" spc="-1" strike="noStrike">
              <a:solidFill>
                <a:srgbClr val="000000"/>
              </a:solidFill>
              <a:latin typeface="Arial"/>
            </a:endParaRPr>
          </a:p>
        </p:txBody>
      </p:sp>
      <p:sp>
        <p:nvSpPr>
          <p:cNvPr id="94" name="PlaceHolder 2"/>
          <p:cNvSpPr>
            <a:spLocks noGrp="1"/>
          </p:cNvSpPr>
          <p:nvPr>
            <p:ph/>
          </p:nvPr>
        </p:nvSpPr>
        <p:spPr>
          <a:xfrm>
            <a:off x="457200" y="2590920"/>
            <a:ext cx="8229600" cy="3581280"/>
          </a:xfrm>
          <a:prstGeom prst="rect">
            <a:avLst/>
          </a:prstGeom>
          <a:noFill/>
          <a:ln w="0">
            <a:noFill/>
          </a:ln>
        </p:spPr>
        <p:txBody>
          <a:bodyPr lIns="90000" rIns="90000" tIns="46800" bIns="46800" anchor="t">
            <a:normAutofit/>
          </a:bodyPr>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deral Procurement Requirements</a:t>
            </a:r>
            <a:endParaRPr b="0" lang="en-US" sz="3200" spc="-1" strike="noStrike">
              <a:solidFill>
                <a:srgbClr val="000000"/>
              </a:solidFill>
              <a:latin typeface="Times New Roman"/>
            </a:endParaRPr>
          </a:p>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 agencies are required to establish their own written procedures based on Federal standards for purchasing services, supplies, and other expendable property, equipment, and real proper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83808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6"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ntees shall have in place written procurement policies which ensu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urement need is legitima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nd free compet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specifications for bid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s to use small and minority owned busines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comparisons/cost analys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ices are checked against purchase orders and receiving repor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s/services are received prior to payment; 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s comply with the terms of contr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de of Conduct</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ntee agencies must maintain written standards of conduct governing the performance of employees who are involved in the award or administration of procurement contra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100" name="PlaceHolder 2"/>
          <p:cNvSpPr>
            <a:spLocks noGrp="1"/>
          </p:cNvSpPr>
          <p:nvPr>
            <p:ph/>
          </p:nvPr>
        </p:nvSpPr>
        <p:spPr>
          <a:xfrm>
            <a:off x="685440" y="1981080"/>
            <a:ext cx="7924680" cy="419112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a:t>
            </a:r>
            <a:endParaRPr b="0" lang="en-US" sz="2800" spc="-1" strike="noStrike">
              <a:solidFill>
                <a:srgbClr val="000000"/>
              </a:solidFill>
              <a:latin typeface="Times New Roman"/>
            </a:endParaRPr>
          </a:p>
          <a:p>
            <a:pPr marL="3412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curement transactions, regardless of amount, must be conducted in a manner that provides, to the maximum extent practical, open and free competition.</a:t>
            </a:r>
            <a:endParaRPr b="0" lang="en-US" sz="2800" spc="-1" strike="noStrike">
              <a:solidFill>
                <a:srgbClr val="000000"/>
              </a:solidFill>
              <a:latin typeface="Times New Roman"/>
            </a:endParaRPr>
          </a:p>
          <a:p>
            <a:pPr marL="341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ee agencies must, whenever possible, make positive efforts to use small businesses, minority-owned firms, and women’s business enterpri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99036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8" name="PlaceHolder 2"/>
          <p:cNvSpPr>
            <a:spLocks noGrp="1"/>
          </p:cNvSpPr>
          <p:nvPr>
            <p:ph/>
          </p:nvPr>
        </p:nvSpPr>
        <p:spPr>
          <a:xfrm>
            <a:off x="457200" y="236232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bal Temporary Assistance for Needy Family (TANF)</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996 welfare reform law, giving federally recognized Indian Tribes, or consortia of such Tribes, authority to operate their own Temporary Assistance for Needy Families (TANF) program. The Tribal TANF Program moves families to self-sufficiency while encouraging and supporting flexibility, innovation, and creativity in tribal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102" name="PlaceHolder 2"/>
          <p:cNvSpPr>
            <a:spLocks noGrp="1"/>
          </p:cNvSpPr>
          <p:nvPr>
            <p:ph/>
          </p:nvPr>
        </p:nvSpPr>
        <p:spPr>
          <a:xfrm>
            <a:off x="533160" y="1980720"/>
            <a:ext cx="84582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ct Requir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ract is defined as a legally binding agreement entered into by two parties for the purpose of purchasing goods or services. Federal regulations found at 45 CFR 92.36(i) detail provisions which must be included in all contracts which require payment by Federal funds. Grantees must have a contract administration system in place to monitor contractor adherence to contract terms, specifications, and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104"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erty Management</a:t>
            </a:r>
            <a:endParaRPr b="0" lang="en-US" sz="28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ntees must have written procedures which document their system for:</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 control over assets including assurance against loss, theft, damage, etc.;</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on of duties, e.g., control of assets vs. control of records;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ntory process which provides for inventory of Federal equipment every 2 years.</a:t>
            </a: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s must include the following information for all equipment: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ial numb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 hold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isition dat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p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of Federal dollars used for purchas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loc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position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858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Administrative Requirements/Options</a:t>
            </a:r>
            <a:endParaRPr b="1" lang="en-US" sz="4000" spc="-1" strike="noStrike">
              <a:solidFill>
                <a:srgbClr val="000000"/>
              </a:solidFill>
              <a:latin typeface="Arial"/>
            </a:endParaRPr>
          </a:p>
        </p:txBody>
      </p:sp>
      <p:sp>
        <p:nvSpPr>
          <p:cNvPr id="106" name="PlaceHolder 2"/>
          <p:cNvSpPr>
            <a:spLocks noGrp="1"/>
          </p:cNvSpPr>
          <p:nvPr>
            <p:ph/>
          </p:nvPr>
        </p:nvSpPr>
        <p:spPr>
          <a:xfrm>
            <a:off x="762120" y="2133360"/>
            <a:ext cx="7772400" cy="4343400"/>
          </a:xfrm>
          <a:prstGeom prst="rect">
            <a:avLst/>
          </a:prstGeom>
          <a:noFill/>
          <a:ln w="0">
            <a:noFill/>
          </a:ln>
        </p:spPr>
        <p:txBody>
          <a:bodyPr lIns="90000" rIns="90000" tIns="46800" bIns="46800" anchor="t">
            <a:normAutofit fontScale="98000"/>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Keeping and Record Retention</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ee financial records, supporting documents, statistical records, and all other records pertaining to the grant award must be retained for a period of at least three years from the date of submission of the annual financial report (45 CFR 92.42, or 45 CFR 98.90). Exceptions to this are:</a:t>
            </a:r>
            <a:endParaRPr b="0" lang="en-US" sz="24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y litigation, claim, financial management review, or audit is started before the expiration of the three-year period</a:t>
            </a:r>
            <a:endParaRPr b="0" lang="en-US" sz="18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for real property and equipment acquired with Federal grant funds must be retained for three years beyond the date of final disposition.</a:t>
            </a:r>
            <a:endParaRPr b="0" lang="en-US" sz="18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TANF programs, the three-year record-keeping requirement in 45 CFR 92.42 has been interpreted in TANF-ACF-PI- 2003-1, dated January 28,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9144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Administrative Requirements/Options (cont.)</a:t>
            </a:r>
            <a:endParaRPr b="1" lang="en-US" sz="2400" spc="-1" strike="noStrike">
              <a:solidFill>
                <a:srgbClr val="000000"/>
              </a:solidFill>
              <a:latin typeface="Arial"/>
            </a:endParaRPr>
          </a:p>
        </p:txBody>
      </p:sp>
      <p:sp>
        <p:nvSpPr>
          <p:cNvPr id="108" name="PlaceHolder 2"/>
          <p:cNvSpPr>
            <a:spLocks noGrp="1"/>
          </p:cNvSpPr>
          <p:nvPr>
            <p:ph/>
          </p:nvPr>
        </p:nvSpPr>
        <p:spPr>
          <a:xfrm>
            <a:off x="685440" y="1828800"/>
            <a:ext cx="800100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Administration Option: Indian Employment, Training and Related Services Demonstration Act (102-477)</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Law 102-477 permits tribal governments to consolidate a number of Federal programs to integrate their federally funded employment, training, and related services programs into a single, coordinated comprehensive program. The TANF and CCDF programs may be consolidated under P.L. 102-47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696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ble Regulations, OMB Circulars, and Certifications</a:t>
            </a:r>
            <a:endParaRPr b="1" lang="en-US" sz="4000" spc="-1" strike="noStrike">
              <a:solidFill>
                <a:srgbClr val="000000"/>
              </a:solidFill>
              <a:latin typeface="Arial"/>
            </a:endParaRPr>
          </a:p>
        </p:txBody>
      </p:sp>
      <p:sp>
        <p:nvSpPr>
          <p:cNvPr id="50" name="PlaceHolder 2"/>
          <p:cNvSpPr>
            <a:spLocks noGrp="1"/>
          </p:cNvSpPr>
          <p:nvPr>
            <p:ph/>
          </p:nvPr>
        </p:nvSpPr>
        <p:spPr>
          <a:xfrm>
            <a:off x="837720" y="2819520"/>
            <a:ext cx="7696440" cy="2743200"/>
          </a:xfrm>
          <a:prstGeom prst="rect">
            <a:avLst/>
          </a:prstGeom>
          <a:noFill/>
          <a:ln w="0">
            <a:noFill/>
          </a:ln>
        </p:spPr>
        <p:txBody>
          <a:bodyPr lIns="90000" rIns="90000" tIns="46800" bIns="46800" anchor="t">
            <a:normAutofit/>
          </a:bodyPr>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Federal Regulations</a:t>
            </a:r>
            <a:endParaRPr b="0" lang="en-US" sz="2400" spc="-1" strike="noStrike">
              <a:solidFill>
                <a:srgbClr val="000000"/>
              </a:solidFill>
              <a:latin typeface="Times New Roman"/>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Code of Federal Regulations (CFR) </a:t>
            </a:r>
            <a:r>
              <a:rPr b="0" lang="en-US" sz="2400" spc="-1" strike="noStrike">
                <a:solidFill>
                  <a:srgbClr val="000000"/>
                </a:solidFill>
                <a:latin typeface="Times New Roman"/>
              </a:rPr>
              <a:t>is a systematic collection of the rules by the executive departments and agencies of the Federal gover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marL="22860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 45</a:t>
            </a:r>
            <a:endParaRPr b="0" lang="en-US" sz="24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74, </a:t>
            </a:r>
            <a:r>
              <a:rPr b="0" i="1" lang="en-US" sz="2000" spc="-1" strike="noStrike">
                <a:solidFill>
                  <a:srgbClr val="000000"/>
                </a:solidFill>
                <a:latin typeface="Times New Roman"/>
              </a:rPr>
              <a:t>Uniform Administrative Requirements for Awards and Subawards to Institutions of Higher Education, Hospitals, Other Non-Profit Organizations, and Commercial Organizations.</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2, </a:t>
            </a:r>
            <a:r>
              <a:rPr b="0" i="1" lang="en-US" sz="2000" spc="-1" strike="noStrike">
                <a:solidFill>
                  <a:srgbClr val="000000"/>
                </a:solidFill>
                <a:latin typeface="Times New Roman"/>
              </a:rPr>
              <a:t>Uniform Administrative Requirements for Grants and Cooperation Agreements to State and Local Governments including Indian Tribal Governments.</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8, Child Care and Development Fund Regulations</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9, Procedures for Hearings for the Child Care and Development Fund</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86, Tribal Temporary Assistance for Needy Families (TANF) Regul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 CFR Part 98 is divided into ten subpart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A – Goals, Purposes and Definition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B – General Application Procedur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C – Eligibility for Servic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D – Program Operations (Child Care Services)  Parental Rights and Responsibiliti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E – Program Operations (Child Care Services)  Lead Agency and Provider Requirement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F – Use of Child Care and Development Fund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G – Financial Management</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H – Program Reporting Requirement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I – Indian Trib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J – Monitoring, Non-Compliance and Compla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 CFR Part 286 is divided into five subp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A – General Tribal TANF Provi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B – Tribal TANF Fun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C – Tribal TANF Plan Content and Process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D – Accountability and Penalt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E – Data Collection and Reporting Requi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8580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8" name="PlaceHolder 2"/>
          <p:cNvSpPr>
            <a:spLocks noGrp="1"/>
          </p:cNvSpPr>
          <p:nvPr>
            <p:ph/>
          </p:nvPr>
        </p:nvSpPr>
        <p:spPr>
          <a:xfrm>
            <a:off x="456840" y="2133360"/>
            <a:ext cx="8381880" cy="434340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Office of Management and Budget (OMB) Circulars</a:t>
            </a:r>
            <a:endParaRPr b="0" lang="en-US" sz="2800" spc="-1" strike="noStrike">
              <a:solidFill>
                <a:srgbClr val="000000"/>
              </a:solidFill>
              <a:latin typeface="Times New Roman"/>
            </a:endParaRPr>
          </a:p>
          <a:p>
            <a:pPr indent="0">
              <a:spcBef>
                <a:spcPts val="700"/>
              </a:spcBef>
              <a:spcAft>
                <a:spcPts val="1049"/>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Times New Roman"/>
              </a:rPr>
              <a:t>Tribal governments follow these circulars:</a:t>
            </a:r>
            <a:endParaRPr b="0" lang="en-US" sz="28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87 Cost Principles;</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02 Administrative Requirements (also referred to as the “Common Rule”); and</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33 Audit Requi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licies</a:t>
            </a:r>
            <a:endParaRPr b="1" lang="en-US" sz="4000" spc="-1" strike="noStrike">
              <a:solidFill>
                <a:srgbClr val="000000"/>
              </a:solidFill>
              <a:latin typeface="Arial"/>
            </a:endParaRPr>
          </a:p>
        </p:txBody>
      </p:sp>
      <p:sp>
        <p:nvSpPr>
          <p:cNvPr id="60" name="PlaceHolder 2"/>
          <p:cNvSpPr>
            <a:spLocks noGrp="1"/>
          </p:cNvSpPr>
          <p:nvPr>
            <p:ph/>
          </p:nvPr>
        </p:nvSpPr>
        <p:spPr>
          <a:xfrm>
            <a:off x="685440" y="2285640"/>
            <a:ext cx="8001000" cy="3429000"/>
          </a:xfrm>
          <a:prstGeom prst="rect">
            <a:avLst/>
          </a:prstGeom>
          <a:noFill/>
          <a:ln w="0">
            <a:noFill/>
          </a:ln>
        </p:spPr>
        <p:txBody>
          <a:bodyPr lIns="90000" rIns="90000" tIns="46800" bIns="46800" anchor="t">
            <a:normAutofit/>
          </a:bodyPr>
          <a:p>
            <a:pPr marL="457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ion and regulations represent the first two levels of rulemaking.  The third level of rulemaking is referred to as </a:t>
            </a:r>
            <a:r>
              <a:rPr b="0" i="1" lang="en-US" sz="2400" spc="-1" strike="noStrike">
                <a:solidFill>
                  <a:srgbClr val="000000"/>
                </a:solidFill>
                <a:latin typeface="Times New Roman"/>
              </a:rPr>
              <a:t>policy</a:t>
            </a:r>
            <a:r>
              <a:rPr b="0" lang="en-US" sz="2400" spc="-1" strike="noStrike">
                <a:solidFill>
                  <a:srgbClr val="000000"/>
                </a:solidFill>
                <a:latin typeface="Times New Roman"/>
              </a:rPr>
              <a:t>. Policies are developed to guide the implementation of a regulat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are generally issued in the form of a Policy Announcement (PA), Information Memorandum (IM), or Program Instruction (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22:31:29Z</dcterms:created>
  <dc:creator>Susan White</dc:creator>
  <dc:description/>
  <dc:language>en-US</dc:language>
  <cp:lastModifiedBy>Ackco</cp:lastModifiedBy>
  <dcterms:modified xsi:type="dcterms:W3CDTF">2005-02-19T15:50:04Z</dcterms:modified>
  <cp:revision>33</cp:revision>
  <dc:subject/>
  <dc:title>No Slide Title</dc:title>
</cp:coreProperties>
</file>