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image8.jpeg" ContentType="image/jpe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543FAF-29C2-4F7D-AC7F-60E37E3E0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1613DEE-5CDA-455C-B84B-02B02B015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00240" y="714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3480" y="4405320"/>
            <a:ext cx="513072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6B81-1D9C-455C-B1BA-F9B175A87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6BB3-3381-4B56-801C-B1E0D5668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DCE2-D8CC-492A-8542-7E5C83424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AB5C-9DB7-4C75-91FF-84EA70F0A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866A1-27C6-4E4B-8BA3-6A1B27DB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5FB6B-3B2A-4002-8B28-0B5EE345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5A047-2D8B-4AC5-B820-2C1869D8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396AA-E4DD-4BD4-80D7-F5F97653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B4387-39FD-4F26-9267-522752A6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9C228-B714-42A1-B609-3FC64E1D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51478-216C-49FC-90ED-BADDF9FB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7333-1728-4D14-81A6-002BD2A90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3A373-1D9A-4ED3-9A5C-0479DE6C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A8F8C-90BB-4ACD-8359-CC370564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6ACB6-CC42-439D-A397-C81E98B3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8B86B-C1B1-4290-9974-617E090C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F260B-7C77-4CE9-B12B-0E3D3782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18B8-55A8-48C9-8B21-AD7C28BC6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C027-ECE0-4F30-999F-7586B6DFA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C3A4-B74D-4AFC-9EDB-F8DB2C45A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80DF-33A9-4FF3-9E01-E27952ADC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1B96-C175-4F9A-BFD3-94BFA9419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E2E2-B916-45FB-A357-335D0BE5F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B2C3-0CC3-437F-943A-182752071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3440" y="0"/>
            <a:ext cx="7348320" cy="68454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24160" y="0"/>
            <a:ext cx="174600" cy="6845400"/>
          </a:xfrm>
          <a:prstGeom prst="rect">
            <a:avLst/>
          </a:prstGeom>
          <a:gradFill rotWithShape="0">
            <a:gsLst>
              <a:gs pos="0">
                <a:srgbClr val="000f3f"/>
              </a:gs>
              <a:gs pos="50000">
                <a:srgbClr val="00279f"/>
              </a:gs>
              <a:gs pos="100000">
                <a:srgbClr val="000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977320" y="0"/>
            <a:ext cx="174600" cy="6845400"/>
          </a:xfrm>
          <a:prstGeom prst="rect">
            <a:avLst/>
          </a:prstGeom>
          <a:gradFill rotWithShape="0">
            <a:gsLst>
              <a:gs pos="0">
                <a:srgbClr val="000f3f"/>
              </a:gs>
              <a:gs pos="50000">
                <a:srgbClr val="00279f"/>
              </a:gs>
              <a:gs pos="100000">
                <a:srgbClr val="000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828440" y="190512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24720" indent="-32472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03800" indent="-270000">
              <a:spcBef>
                <a:spcPts val="825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083600" indent="-21528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517400" indent="-216720">
              <a:spcBef>
                <a:spcPts val="825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1951560" indent="-21708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1951560" indent="-2170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1951560" indent="-2170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249960"/>
            <a:ext cx="1600200" cy="531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396280" y="6165720"/>
            <a:ext cx="747720" cy="6922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3962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FBBD-1997-4F03-8818-9F0639465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2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9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83880" y="173808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5000" spc="-1" strike="noStrike">
                <a:solidFill>
                  <a:srgbClr val="ffff66"/>
                </a:solidFill>
                <a:latin typeface="Times New Roman"/>
              </a:rPr>
              <a:t>LECTURE #7b</a:t>
            </a:r>
            <a:br>
              <a:rPr sz="5000"/>
            </a:br>
            <a:br>
              <a:rPr sz="5000"/>
            </a:b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WATER REFINEMENTS</a:t>
            </a:r>
            <a:br>
              <a:rPr sz="3800"/>
            </a:b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FOR WETLANDS HYDROLOGY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22520" y="4062240"/>
            <a:ext cx="3257640" cy="2092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1932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55920" y="0"/>
            <a:ext cx="758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ROUNDWATER STORAGES AND ELEVATIONS</a:t>
            </a:r>
            <a:r>
              <a:rPr b="1" lang="en-US" sz="2800" spc="-1" strike="noStrike">
                <a:solidFill>
                  <a:srgbClr val="ff00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05040" y="1079640"/>
            <a:ext cx="702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gion 1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GWEL &lt; LEL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GW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= AGW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+BGW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WE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= TGWS/(PCW + PG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gion 2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UELV &gt; GWEL &gt; LEL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LGWS = LELV*(PCW + PG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WE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= LELV + (TGWS-LLGWS)/PG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gion 3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SELV &gt; GWEL &gt; UEL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LGWS = LLGWS + (UELV - LELV)*PG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WE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= UELV +  (UZS + IFWS + (TGWS - ULGWS))/PG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bove Region 3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Surface Pon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ater Surface Elevation = GWEL + S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4661-EF40-4562-ACD3-BE98E1754D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26760" y="61920"/>
            <a:ext cx="74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ROUNDWATER EVAPOTRANSPI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4920" y="2133720"/>
          <a:ext cx="9034560" cy="438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2133720"/>
                    <a:ext cx="90345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1603440" y="643680"/>
            <a:ext cx="7181640" cy="59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Region 1: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WEL &lt; LEL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'Normal' operation of ET algorithms, except ET at potential rate from Surface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ntion Storage (SUR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Region 2: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ELV &gt; GWEL &gt; LEL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GWET = REMPET*[AGWETP + (1.0 – </a:t>
            </a: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AGWETP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)*(GWEL-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LELV)/(SELV-LELV)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here: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GWET = evapotranspiration from groundwater [in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MPET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= remaining potential evapotranspiration [in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AGWETP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= fraction of REMPET from active groundwater, input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arameter [-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WEL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= groundwater elevation [in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LV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= surface elevation [in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GWET cannot exceed the groundwater storage above LELV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GWET = MIN[AGWET, (TGWS-LLGWS)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Region 3: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LV  &gt; GWEL &gt; UEL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T at potential rate from UZS (normal operation) and added to AGW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Above Region 3: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Surface Pond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T at potential rate from S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6C77-A46A-4870-9478-42D48706670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632240" y="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RUNOFF 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69680" y="623880"/>
            <a:ext cx="44694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RTOPFG = 1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'Normal' gravity and slope driven overland flow rou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RTOPFG = 2: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Power function of Surface Stor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URO = (1-SRRC*DELT60)*SURS**SRE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here:  SURO    = Surface Outflow [in/interval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URS    = Surface Detention Storage [in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RRC    = Hourly recession const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LT60 = Hours per interv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REXP  = Exponent in surface runoff equ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RTOPFG = 3: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General FTABLE Op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TABLE         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OWS COLS    **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pth   Outflow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**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in)         (/hr)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**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--         -------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**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.0       0.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.0       0.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.0       0.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.0       0.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.0       0.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ND FTABLE  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0655-F580-4FD3-941D-F41782E20D4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83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EW PWATER VARIABLES, PARAMETERS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STANTS (#1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10080" y="998640"/>
            <a:ext cx="8713440" cy="61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AME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XPLANATION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COM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E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riabl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oundwater elevation (in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Elevation of the groundwater calculated in each 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ep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DATM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ramete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um for GWEL (ft) (typicall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Total groundwater storage is the storage betwe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an sea level in coastal areas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GWDATM and the groundwater eleva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LV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nstan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an surface elevation (in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The mean elevation is representative for flat area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=MELEV*12-GWDATM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MELEV is a paramet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ELV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nstan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pper Influence Elevation (in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Elevation above which the groundwater affects upp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= SELV-(4*UZSN+IFWSC)/UPGW   zone and interflow storage behavio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LV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nstan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ower Influence Elevation (in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Elevation above which the groundwater affects low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= SELV-(2.5*LZSN)/PCW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zone behavior and may affect inter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ELV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ramete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ase elevation for AGWO (in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Groundwater elevation above which there is outflow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corresponds to the bottom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into the channels. Groundwater below BELV i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levation of nearby channels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inactiv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LGW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nstan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tal Groundwater storage whe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Groundwater storage above which groundwa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 groundwater level is a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affects upper zone and interflow behavio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ELV (i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LGW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nstan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tal Groundwater storage whe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Groundwater storage above which groundwat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 groundwater level is a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affects lower zone and may affect interflow behavio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LV (i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9200" y="990720"/>
            <a:ext cx="8686800" cy="380880"/>
            <a:chOff x="79200" y="990720"/>
            <a:chExt cx="8686800" cy="380880"/>
          </a:xfrm>
        </p:grpSpPr>
        <p:sp>
          <p:nvSpPr>
            <p:cNvPr id="252" name=""/>
            <p:cNvSpPr/>
            <p:nvPr/>
          </p:nvSpPr>
          <p:spPr>
            <a:xfrm>
              <a:off x="79200" y="990720"/>
              <a:ext cx="8686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200" y="1371600"/>
              <a:ext cx="8686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urtesy of Tetra Tech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C212D-80D9-4308-9276-8237D4A52BB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1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EW PWATER VARIABLES, PARAMETERS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STANTS (#2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0600" y="1084320"/>
            <a:ext cx="850464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AME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XPLANATION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COM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GW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nstan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tal Groundwater storage when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Groundwater storage above which there i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oundwater level is BELV (in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groundwater out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CW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ramete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hesion water porosity (-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Soil pore space in microp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GW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ramete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ravitational water porosity (-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Soil pore space in macropor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PGW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rameter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pper gravitational wate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Pore space in macropores in the upper layers of t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orosity (-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soil colum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WS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ramete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ximum interflow storage (in)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Maximum interflow storage if GWEL&gt;UEL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R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ramete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rface Runoff Recession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Used to calculate surface runoff as a function of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nstant (-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surface storage onl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EXP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ramete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rface Runoff Exponent (-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Used to calculate surface runoff as a function of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rface storage onl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LT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nstant /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lerance level to determin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Used to smooth out jumps in gw elevation due t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rameter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ransition between regions (in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changes in soil reg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LFA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ramete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ctor in equation describing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Typical value is 2.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ower zone influenc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ELFA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ramete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ctor in equation describing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Typical value is 4.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 upper influenc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28600" y="990720"/>
            <a:ext cx="8686800" cy="380880"/>
            <a:chOff x="228600" y="990720"/>
            <a:chExt cx="8686800" cy="380880"/>
          </a:xfrm>
        </p:grpSpPr>
        <p:sp>
          <p:nvSpPr>
            <p:cNvPr id="257" name=""/>
            <p:cNvSpPr/>
            <p:nvPr/>
          </p:nvSpPr>
          <p:spPr>
            <a:xfrm>
              <a:off x="228600" y="990720"/>
              <a:ext cx="8686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urtesy of Tetra Tech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C2148-B5C4-4313-93DE-F2160F8F71A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50880" y="0"/>
            <a:ext cx="73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XAMPLE GW ELEVATION SIMULATION RESULTS FOR St. LUCIE WATERSHED, FL (#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681200" y="1008000"/>
          <a:ext cx="7238880" cy="50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1008000"/>
                    <a:ext cx="7238880" cy="50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2180880" y="6194520"/>
            <a:ext cx="57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roundwater elevations at Indiantown Well (1979-199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B077-0C70-4B35-9B6B-530437C9DB7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565280" y="1440"/>
            <a:ext cx="75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XAMPLE GW ELEVATION SIMULATION RESULTS FOR St. LUCIE WATERSHED, FL (#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3240" y="6172200"/>
            <a:ext cx="52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roundwater elevations at Indiantown Well (1988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735200" y="1050840"/>
          <a:ext cx="7162560" cy="50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1050840"/>
                    <a:ext cx="7162560" cy="50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9DBA-A120-4805-BCE9-C0209D3E03B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772280" y="181080"/>
            <a:ext cx="297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46200" y="793800"/>
            <a:ext cx="814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2" marL="932040" indent="-1854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High water table/wetlands code changes have been successfully implemented into PWATER</a:t>
            </a:r>
            <a:endParaRPr b="0" i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32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i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32040" indent="-1854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reliminary testing with prototype model and generic data for South Florida has been successful; model simulates range and variability of groundwater levels</a:t>
            </a:r>
            <a:endParaRPr b="0" i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32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i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32040" indent="-1854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reliminary testing with a subset of St. Lucie data  shows reasonable reproduction of groundwater levels and variability</a:t>
            </a:r>
            <a:endParaRPr b="0" i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32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i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32040" indent="-1854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omplete testing within the integrated HSPF/FEQ system on St. Lucie is needed; issues of irrigation applications, pumping, and canal water levels must be addressed</a:t>
            </a:r>
            <a:endParaRPr b="0" i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7C52-9CC1-4452-A174-4DFA6927E10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228600" y="1447920"/>
          <a:ext cx="6629400" cy="42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629400" cy="42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-4680" y="123840"/>
            <a:ext cx="7451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COMPONENTS OF WETLANDS WATER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BUDGE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29840" y="5943600"/>
            <a:ext cx="43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 + SWI + GWI = ET + SWO + GWO +</a:t>
            </a:r>
            <a:r>
              <a:rPr b="1" lang="en-US" sz="1800" spc="-1" strike="noStrike">
                <a:solidFill>
                  <a:srgbClr val="ffffff"/>
                </a:solidFill>
                <a:latin typeface="WP Greek Century"/>
                <a:ea typeface="WP Greek Century"/>
              </a:rPr>
              <a:t>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10920" y="1677960"/>
            <a:ext cx="203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       = precipi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WI   = surfa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ter in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WO = surfa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ter out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WI   = groun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ter in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WO = groun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ter out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T     = evapotra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i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WP Greek Century"/>
                <a:ea typeface="WP Greek Century"/>
              </a:rPr>
              <a:t>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     = change 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or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60" y="6586560"/>
            <a:ext cx="306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National Water Survey - Wetland Resour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urtesy of Tetra Tech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126B8-0DF5-43C6-B110-7F142474776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8794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ATER BUDGETS FOR SELECTED WETLAND TYP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0" y="1828800"/>
          <a:ext cx="91440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2030040" y="5487840"/>
            <a:ext cx="43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mponents are expressed in  percentag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60" y="6586560"/>
            <a:ext cx="306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National Water Survey - Wetland Resour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urtesy of Tetra Tech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DA7F5-E999-4D7C-A926-841C74E86A5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52760" y="0"/>
            <a:ext cx="63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RMAL’ PWATER HYDROLOGI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SSUMPTIONS</a:t>
            </a:r>
            <a:r>
              <a:rPr b="1" lang="en-US" sz="2800" spc="-1" strike="noStrike">
                <a:solidFill>
                  <a:srgbClr val="ff00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58600" y="1228320"/>
            <a:ext cx="6908760" cy="52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'Normal' gravitational-driven watershed hydrology exist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Surface runoff is driven by ground surface slope; evaporation from surface detention is not significant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Groundwater level is deep; it does not interact with surface runoff, infiltration, or the unsaturated zone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Entire active groundwater storage provides baseflow; deep inactive groundwater is not represented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Unsaturated zone is modeled with two storages - upper zone, lower zone - with 'nominal' capacities but no maximum limit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Interflow represents a subsurface path to the stream; interflow storage has no maximum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638F-8497-41AA-81E7-8AF9C0F5614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8710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ATER BUDGETS FOR SELECTED WETLAND TYP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0" y="6586560"/>
            <a:ext cx="306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National Water Survey - Wetland Resour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88800" y="5613480"/>
            <a:ext cx="43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mponents are expressed in  percentag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1266840"/>
          <a:ext cx="914400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6840"/>
                    <a:ext cx="914400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urtesy of Tetra Tech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5BDC5-D5AD-4A71-9D5E-40D4420CA41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8934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ATER BUDGETS FOR SELECTED WETLAND TYP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0" y="6586560"/>
            <a:ext cx="306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National Water Survey - Wetland Resour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20600" y="5572080"/>
            <a:ext cx="43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mponents are expressed in  percentag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1523880"/>
          <a:ext cx="914400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urtesy of Tetra Tech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929EA-DFBE-47EA-8E5C-6C8D5319BE76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89040" y="-50760"/>
            <a:ext cx="755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BJECTIVES OF PWATER REFINEMENTS FOR WETLANDS HYDR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647360" y="965160"/>
            <a:ext cx="690876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5600" indent="-345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Track dynamic variation in groundwater level (i.e., rising/falling water table)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5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5600" indent="-345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Model interaction between groundwater storage, soil (unsaturated zone) storages, and infiltration/runoff processe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5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5600" indent="-345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Accommodate ponded conditions on the land surface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5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5600" indent="-345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Allow evaporation from ponded surface storage and surface runoff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5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5600" indent="-345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Allow additional options for surface runoff when not gravity driven, i.e. function of surface storage, water level differences, etc.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5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5600" indent="-345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Perform refinements with minimal changes to existing PWATER routine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5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5600" indent="-345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Allow for smooth transition between 'normal' hydrologic conditions and 'water table influence' effect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EBDF-5AAE-4B2A-989B-1EC4320DF8A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43040" y="0"/>
            <a:ext cx="7685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Times New Roman"/>
              </a:rPr>
              <a:t>FIELD CAPACITY, WILTING POINT AND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Times New Roman"/>
              </a:rPr>
              <a:t>AVAILABLE WATER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01720" y="1663560"/>
          <a:ext cx="7113600" cy="39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1720" y="1663560"/>
                    <a:ext cx="7113600" cy="39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048400" y="5702400"/>
            <a:ext cx="63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il texture and available water holding capacity of soi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9E5D-A3D2-4827-A481-5B337A2FD14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370240" y="765000"/>
          <a:ext cx="5481360" cy="53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0240" y="765000"/>
                    <a:ext cx="548136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662120" y="222120"/>
            <a:ext cx="534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SOIL POROSITY CONCEP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28840" y="6026040"/>
            <a:ext cx="61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ulk density and pore space for Miami loam with A, E, Bt and C horiz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4853-0652-45F3-8BE4-FE7A1F640BF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558120" y="511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19240" y="5553000"/>
            <a:ext cx="881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05200" y="511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00520" y="5334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re Sp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43720" y="55674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3962520"/>
            <a:ext cx="1828800" cy="1295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1523880"/>
            <a:ext cx="106704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0960" y="-20520"/>
            <a:ext cx="873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IL PROFILE CONCEPTS FOR HIGH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ABLE VERSION OF PWATER</a:t>
            </a:r>
            <a:r>
              <a:rPr b="1" lang="en-US" sz="2400" spc="-1" strike="noStrike">
                <a:solidFill>
                  <a:srgbClr val="ff00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066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and Su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106668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ff9900"/>
                </a:solidFill>
                <a:latin typeface="Arial"/>
              </a:rPr>
              <a:t>c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06668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ff9900"/>
                </a:solidFill>
                <a:latin typeface="Arial"/>
              </a:rPr>
              <a:t>grav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962520"/>
            <a:ext cx="53316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666880"/>
            <a:ext cx="1828800" cy="129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1523880"/>
            <a:ext cx="533160" cy="2438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1523880"/>
            <a:ext cx="914400" cy="1143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1523880"/>
            <a:ext cx="1295640" cy="3733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17524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Z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523880"/>
            <a:ext cx="2361960" cy="3733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1523880"/>
            <a:ext cx="533160" cy="3733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43434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Z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1523880"/>
            <a:ext cx="1828800" cy="3733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523880"/>
            <a:ext cx="1828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1523880"/>
            <a:ext cx="685800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724280" y="1523880"/>
            <a:ext cx="0" cy="3733920"/>
            <a:chOff x="4724280" y="1523880"/>
            <a:chExt cx="0" cy="3733920"/>
          </a:xfrm>
        </p:grpSpPr>
        <p:sp>
          <p:nvSpPr>
            <p:cNvPr id="132" name=""/>
            <p:cNvSpPr/>
            <p:nvPr/>
          </p:nvSpPr>
          <p:spPr>
            <a:xfrm>
              <a:off x="4724280" y="1523880"/>
              <a:ext cx="0" cy="373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24280" y="1593000"/>
              <a:ext cx="0" cy="3664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895480" y="1523880"/>
            <a:ext cx="0" cy="3733920"/>
            <a:chOff x="2895480" y="1523880"/>
            <a:chExt cx="0" cy="3733920"/>
          </a:xfrm>
        </p:grpSpPr>
        <p:sp>
          <p:nvSpPr>
            <p:cNvPr id="135" name=""/>
            <p:cNvSpPr/>
            <p:nvPr/>
          </p:nvSpPr>
          <p:spPr>
            <a:xfrm>
              <a:off x="2895480" y="1523880"/>
              <a:ext cx="0" cy="373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95480" y="1593000"/>
              <a:ext cx="0" cy="3664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553080" y="1523880"/>
            <a:ext cx="0" cy="3733920"/>
            <a:chOff x="6553080" y="1523880"/>
            <a:chExt cx="0" cy="3733920"/>
          </a:xfrm>
        </p:grpSpPr>
        <p:sp>
          <p:nvSpPr>
            <p:cNvPr id="138" name=""/>
            <p:cNvSpPr/>
            <p:nvPr/>
          </p:nvSpPr>
          <p:spPr>
            <a:xfrm>
              <a:off x="6553080" y="1523880"/>
              <a:ext cx="0" cy="373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3080" y="1593000"/>
              <a:ext cx="0" cy="3664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52280" y="5257800"/>
            <a:ext cx="685800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9625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763120" y="39625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6553080"/>
            <a:ext cx="861084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5943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W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772400" y="3962160"/>
            <a:ext cx="0" cy="2095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5481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W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52280" y="5719680"/>
            <a:ext cx="7620120" cy="368280"/>
            <a:chOff x="152280" y="5719680"/>
            <a:chExt cx="7620120" cy="368280"/>
          </a:xfrm>
        </p:grpSpPr>
        <p:sp>
          <p:nvSpPr>
            <p:cNvPr id="148" name=""/>
            <p:cNvSpPr/>
            <p:nvPr/>
          </p:nvSpPr>
          <p:spPr>
            <a:xfrm>
              <a:off x="152280" y="6057720"/>
              <a:ext cx="7620120" cy="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3520" y="5719680"/>
              <a:ext cx="36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Minimum Channel Elev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533520" y="621504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at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992840"/>
            <a:ext cx="365760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Lower 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fluence Dept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14560" y="26877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33"/>
                </a:solidFill>
                <a:uFillTx/>
                <a:latin typeface="Arial"/>
              </a:rPr>
              <a:t>CohesionW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43360" y="268776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33"/>
                </a:solidFill>
                <a:uFillTx/>
                <a:latin typeface="Arial"/>
              </a:rPr>
              <a:t>Available Poro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343400"/>
            <a:ext cx="1785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33"/>
                </a:solidFill>
                <a:uFillTx/>
                <a:latin typeface="Arial"/>
              </a:rPr>
              <a:t>Gravita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33"/>
                </a:solidFill>
                <a:uFillTx/>
                <a:latin typeface="Arial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38240" y="2840040"/>
            <a:ext cx="12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33"/>
                </a:solidFill>
                <a:uFillTx/>
                <a:latin typeface="Arial"/>
              </a:rPr>
              <a:t>So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8120" y="332892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Groundwater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8120" y="2073240"/>
            <a:ext cx="3657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Upper 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fluence Dep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26668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895480" y="1173240"/>
            <a:ext cx="0" cy="290520"/>
            <a:chOff x="2895480" y="1173240"/>
            <a:chExt cx="0" cy="290520"/>
          </a:xfrm>
        </p:grpSpPr>
        <p:sp>
          <p:nvSpPr>
            <p:cNvPr id="160" name=""/>
            <p:cNvSpPr/>
            <p:nvPr/>
          </p:nvSpPr>
          <p:spPr>
            <a:xfrm>
              <a:off x="2895480" y="1173240"/>
              <a:ext cx="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95480" y="1178280"/>
              <a:ext cx="0" cy="285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724280" y="1157400"/>
            <a:ext cx="0" cy="290520"/>
            <a:chOff x="4724280" y="1157400"/>
            <a:chExt cx="0" cy="290520"/>
          </a:xfrm>
        </p:grpSpPr>
        <p:sp>
          <p:nvSpPr>
            <p:cNvPr id="163" name=""/>
            <p:cNvSpPr/>
            <p:nvPr/>
          </p:nvSpPr>
          <p:spPr>
            <a:xfrm>
              <a:off x="4724280" y="1157400"/>
              <a:ext cx="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4280" y="1162440"/>
              <a:ext cx="0" cy="285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558120" y="1177920"/>
            <a:ext cx="0" cy="290520"/>
            <a:chOff x="6558120" y="1177920"/>
            <a:chExt cx="0" cy="290520"/>
          </a:xfrm>
        </p:grpSpPr>
        <p:sp>
          <p:nvSpPr>
            <p:cNvPr id="166" name=""/>
            <p:cNvSpPr/>
            <p:nvPr/>
          </p:nvSpPr>
          <p:spPr>
            <a:xfrm>
              <a:off x="6558120" y="1177920"/>
              <a:ext cx="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58120" y="1182960"/>
              <a:ext cx="0" cy="285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urtesy of Tetra Tech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29435-8E72-4A67-AFEB-11EBDF7ADD4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68160" y="1440"/>
            <a:ext cx="667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IL MOISTURE STORAGE CONCEPTS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DEL ALGORITHIMS</a:t>
            </a:r>
            <a:r>
              <a:rPr b="1" lang="en-US" sz="2400" spc="-1" strike="noStrike">
                <a:solidFill>
                  <a:srgbClr val="ff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865600" y="5446800"/>
            <a:ext cx="4518000" cy="1411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398600" y="716040"/>
            <a:ext cx="7745400" cy="475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DAE0-3B64-481A-8524-052BFBA647D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844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IL MOISTURE STORAGE CONCEPTS AND MODEL ALGORITHIMS</a:t>
            </a:r>
            <a:r>
              <a:rPr b="1" lang="en-US" sz="2400" spc="-1" strike="noStrike">
                <a:solidFill>
                  <a:srgbClr val="ff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18120" y="1611360"/>
            <a:ext cx="3635280" cy="2670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30560" y="1611360"/>
            <a:ext cx="1436760" cy="168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56000" y="1603440"/>
            <a:ext cx="765000" cy="1154160"/>
          </a:xfrm>
          <a:custGeom>
            <a:avLst/>
            <a:gdLst/>
            <a:ahLst/>
            <a:rect l="l" t="t" r="r" b="b"/>
            <a:pathLst>
              <a:path w="482" h="727">
                <a:moveTo>
                  <a:pt x="0" y="0"/>
                </a:moveTo>
                <a:cubicBezTo>
                  <a:pt x="3" y="127"/>
                  <a:pt x="6" y="254"/>
                  <a:pt x="73" y="327"/>
                </a:cubicBezTo>
                <a:cubicBezTo>
                  <a:pt x="140" y="400"/>
                  <a:pt x="332" y="369"/>
                  <a:pt x="400" y="436"/>
                </a:cubicBezTo>
                <a:cubicBezTo>
                  <a:pt x="468" y="503"/>
                  <a:pt x="475" y="615"/>
                  <a:pt x="482" y="72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06960" y="4143240"/>
            <a:ext cx="1842840" cy="1217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08400" y="545292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ff9900"/>
                </a:solidFill>
                <a:latin typeface="Arial"/>
              </a:rPr>
              <a:t>G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49800" y="1631880"/>
            <a:ext cx="893880" cy="214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56280" y="4148280"/>
            <a:ext cx="1793880" cy="1177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08200" y="165276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24520" y="1963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Z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5200" y="29275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33"/>
                </a:solidFill>
                <a:uFillTx/>
                <a:latin typeface="Arial"/>
              </a:rPr>
              <a:t>So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873920" y="912960"/>
            <a:ext cx="0" cy="290520"/>
            <a:chOff x="7873920" y="912960"/>
            <a:chExt cx="0" cy="290520"/>
          </a:xfrm>
        </p:grpSpPr>
        <p:sp>
          <p:nvSpPr>
            <p:cNvPr id="183" name=""/>
            <p:cNvSpPr/>
            <p:nvPr/>
          </p:nvSpPr>
          <p:spPr>
            <a:xfrm>
              <a:off x="7873920" y="912960"/>
              <a:ext cx="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73920" y="918000"/>
              <a:ext cx="0" cy="285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066000" y="912960"/>
            <a:ext cx="0" cy="290520"/>
            <a:chOff x="6066000" y="912960"/>
            <a:chExt cx="0" cy="290520"/>
          </a:xfrm>
        </p:grpSpPr>
        <p:sp>
          <p:nvSpPr>
            <p:cNvPr id="186" name=""/>
            <p:cNvSpPr/>
            <p:nvPr/>
          </p:nvSpPr>
          <p:spPr>
            <a:xfrm>
              <a:off x="6066000" y="912960"/>
              <a:ext cx="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66000" y="918000"/>
              <a:ext cx="0" cy="285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870680" y="5450040"/>
            <a:ext cx="0" cy="290520"/>
            <a:chOff x="7870680" y="5450040"/>
            <a:chExt cx="0" cy="290520"/>
          </a:xfrm>
        </p:grpSpPr>
        <p:sp>
          <p:nvSpPr>
            <p:cNvPr id="189" name=""/>
            <p:cNvSpPr/>
            <p:nvPr/>
          </p:nvSpPr>
          <p:spPr>
            <a:xfrm>
              <a:off x="7870680" y="5450040"/>
              <a:ext cx="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70680" y="5455080"/>
              <a:ext cx="0" cy="285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859040" y="1611360"/>
            <a:ext cx="2363760" cy="3733920"/>
            <a:chOff x="1859040" y="1611360"/>
            <a:chExt cx="2363760" cy="3733920"/>
          </a:xfrm>
        </p:grpSpPr>
        <p:sp>
          <p:nvSpPr>
            <p:cNvPr id="192" name=""/>
            <p:cNvSpPr/>
            <p:nvPr/>
          </p:nvSpPr>
          <p:spPr>
            <a:xfrm>
              <a:off x="1860480" y="2754360"/>
              <a:ext cx="2362320" cy="2590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59040" y="1611360"/>
              <a:ext cx="1271520" cy="11430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141720" y="2352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Z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79600" y="3749760"/>
            <a:ext cx="7272360" cy="27000"/>
          </a:xfrm>
          <a:prstGeom prst="line">
            <a:avLst/>
          </a:prstGeom>
          <a:ln w="57240">
            <a:solidFill>
              <a:srgbClr val="99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79600" y="2739960"/>
            <a:ext cx="7281720" cy="14400"/>
          </a:xfrm>
          <a:prstGeom prst="line">
            <a:avLst/>
          </a:prstGeom>
          <a:ln w="57240">
            <a:solidFill>
              <a:srgbClr val="99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79600" y="5345280"/>
            <a:ext cx="727560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2280" y="1273320"/>
            <a:ext cx="5991120" cy="328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129120" y="919080"/>
            <a:ext cx="0" cy="290520"/>
            <a:chOff x="3129120" y="919080"/>
            <a:chExt cx="0" cy="290520"/>
          </a:xfrm>
        </p:grpSpPr>
        <p:sp>
          <p:nvSpPr>
            <p:cNvPr id="200" name=""/>
            <p:cNvSpPr/>
            <p:nvPr/>
          </p:nvSpPr>
          <p:spPr>
            <a:xfrm>
              <a:off x="3129120" y="919080"/>
              <a:ext cx="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29120" y="924120"/>
              <a:ext cx="0" cy="285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039000" y="5473800"/>
            <a:ext cx="0" cy="290520"/>
            <a:chOff x="6039000" y="5473800"/>
            <a:chExt cx="0" cy="290520"/>
          </a:xfrm>
        </p:grpSpPr>
        <p:sp>
          <p:nvSpPr>
            <p:cNvPr id="203" name=""/>
            <p:cNvSpPr/>
            <p:nvPr/>
          </p:nvSpPr>
          <p:spPr>
            <a:xfrm>
              <a:off x="6039000" y="5473800"/>
              <a:ext cx="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39000" y="5478840"/>
              <a:ext cx="0" cy="285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214880" y="5481720"/>
            <a:ext cx="0" cy="290520"/>
            <a:chOff x="4214880" y="5481720"/>
            <a:chExt cx="0" cy="290520"/>
          </a:xfrm>
        </p:grpSpPr>
        <p:sp>
          <p:nvSpPr>
            <p:cNvPr id="206" name=""/>
            <p:cNvSpPr/>
            <p:nvPr/>
          </p:nvSpPr>
          <p:spPr>
            <a:xfrm>
              <a:off x="4214880" y="5481720"/>
              <a:ext cx="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14880" y="5486760"/>
              <a:ext cx="0" cy="285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035760" y="548964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ff9900"/>
                </a:solidFill>
                <a:latin typeface="Arial"/>
              </a:rPr>
              <a:t>C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22600" y="87012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UP</a:t>
            </a:r>
            <a:r>
              <a:rPr b="1" lang="en-US" sz="2000" spc="-1" strike="noStrike" baseline="-25000">
                <a:solidFill>
                  <a:srgbClr val="ff9900"/>
                </a:solidFill>
                <a:latin typeface="Arial"/>
              </a:rPr>
              <a:t>G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72120" y="86508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ff9900"/>
                </a:solidFill>
                <a:latin typeface="Arial"/>
              </a:rPr>
              <a:t>C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8086680" y="4272120"/>
            <a:ext cx="1465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G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8237880" y="1794240"/>
            <a:ext cx="111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G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8222040" y="2888640"/>
            <a:ext cx="119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G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62280" y="1235160"/>
            <a:ext cx="59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05040" y="314316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33"/>
                </a:solidFill>
                <a:uFillTx/>
                <a:latin typeface="Arial"/>
              </a:rPr>
              <a:t>So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863720" y="5851440"/>
            <a:ext cx="6024600" cy="368280"/>
            <a:chOff x="1863720" y="5851440"/>
            <a:chExt cx="6024600" cy="368280"/>
          </a:xfrm>
        </p:grpSpPr>
        <p:grpSp>
          <p:nvGrpSpPr>
            <p:cNvPr id="217" name=""/>
            <p:cNvGrpSpPr/>
            <p:nvPr/>
          </p:nvGrpSpPr>
          <p:grpSpPr>
            <a:xfrm>
              <a:off x="7888320" y="5910120"/>
              <a:ext cx="0" cy="290520"/>
              <a:chOff x="7888320" y="5910120"/>
              <a:chExt cx="0" cy="29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888320" y="5910120"/>
                <a:ext cx="0" cy="29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88320" y="5915160"/>
                <a:ext cx="0" cy="285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863720" y="5902200"/>
              <a:ext cx="0" cy="290520"/>
              <a:chOff x="1863720" y="5902200"/>
              <a:chExt cx="0" cy="290520"/>
            </a:xfrm>
          </p:grpSpPr>
          <p:sp>
            <p:nvSpPr>
              <p:cNvPr id="221" name=""/>
              <p:cNvSpPr/>
              <p:nvPr/>
            </p:nvSpPr>
            <p:spPr>
              <a:xfrm>
                <a:off x="1863720" y="5902200"/>
                <a:ext cx="0" cy="29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863720" y="5907240"/>
                <a:ext cx="0" cy="285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143600" y="5851440"/>
              <a:ext cx="14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84600" y="6049800"/>
              <a:ext cx="22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600880" y="6057720"/>
              <a:ext cx="22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1217520" y="4138560"/>
            <a:ext cx="6637320" cy="1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201680" y="4655880"/>
            <a:ext cx="6637320" cy="14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79600" y="1596960"/>
            <a:ext cx="7146720" cy="1440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479600" y="1272960"/>
            <a:ext cx="7146720" cy="1404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062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GW Dat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4491000"/>
            <a:ext cx="1828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BELV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base eleva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252960"/>
            <a:ext cx="2781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LELV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ower influence eleva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509920"/>
            <a:ext cx="261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UELV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upper influence eleva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442880"/>
            <a:ext cx="261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SELV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surface eleva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879720"/>
            <a:ext cx="2781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GWE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groundwater eleva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037200" y="1606680"/>
            <a:ext cx="14400" cy="3719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03720" y="4138560"/>
            <a:ext cx="36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54400" y="4854600"/>
            <a:ext cx="36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G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urtesy of Tetra Tech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DF715-C74F-4BDC-81AB-01FAF3DA7FB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578960" y="0"/>
            <a:ext cx="403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NFLUENCE LEVE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6720" y="720000"/>
            <a:ext cx="73663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wer Influence level -Water surface elevation above which groundwater affects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wer zone behavior and proces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LV = SELV - (2.5*LZSN)/PC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here: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LV = lower zone influence level [in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LV = mean surface elevation (relative to some datum) [in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ZSN = lower zone nominal storage [in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CW  = porosity in microp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~~~~~~~~~~~~~~~~~~~~~~~~~~~~~~~~~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pper influence level - Water surface elevation above which groundwater affects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pper zone behavior and proces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ELV = SELV - (4*UZSN + IFWSC)/UPG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here: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ELV = upper zone and interflow influence level [in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LV = mean surface elevation [in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ZSN = upper zone nominal storage [in]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FWSC = interflow storage capacity [in]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PGW = porosity in macropores in upper soil layer [-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D055-B039-4C57-8756-94764D1AED2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23:46:00Z</dcterms:created>
  <dc:creator/>
  <dc:description/>
  <dc:language>en-US</dc:language>
  <cp:lastModifiedBy>Bethany Neilson</cp:lastModifiedBy>
  <dcterms:modified xsi:type="dcterms:W3CDTF">2004-09-03T16:16:30Z</dcterms:modified>
  <cp:revision>133</cp:revision>
  <dc:subject/>
  <dc:title>Lecture 3 - Data Extensions</dc:title>
</cp:coreProperties>
</file>